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start.wav" ContentType="audio/x-wav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gif" ContentType="image/gif"/>
  <Override PartName="/ppt/media/image15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1.gif" ContentType="image/gif"/>
  <Override PartName="/ppt/media/image2.png" ContentType="image/png"/>
  <Override PartName="/ppt/media/image3.wmf" ContentType="image/x-wmf"/>
  <Override PartName="/ppt/media/image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BEC52-DB0F-49F5-964E-B3CB15EBBA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88E07-DF4C-43FE-AEFA-381E5B33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BA913D-BD5D-4EE0-9DE3-5A4B3E41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8B85DA-D114-4E12-9D6E-BB2819D9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6C360D-4E07-4C18-8FAA-F7F7323A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CEA47A-EAFF-4910-A69E-78F89952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E12D90-3044-4AA9-8896-316F02F3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A32407-4C28-4D47-96C8-E67E8BA6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D8D288-2B39-4D01-9D20-4CC13C03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93D230-3395-4D4A-9EE9-5BDBC72C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6DCBBF-CFF5-419C-8185-54731F01B2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7E049-D0CA-4191-903A-72CD90F2F0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85F47-010F-49B1-9CD8-5B1C09E4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E1C33-BB60-4E16-ACF9-EE77A827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543D6-3339-44DF-BD90-065928ED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20198-FFC9-40A7-955C-4F8A9B20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C8F4E-4C59-4646-86F5-D7A12F2D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75649-13EB-42B3-A8B5-F71ADD61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90E7E-5948-4CF3-90CB-E8D40866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871E4-7362-4A62-A73E-9AEFD743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5F87C-F9EC-466C-A428-9E60DBCE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A4B2E-8140-4162-9D63-B106288A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888B7-9E27-417F-BECC-F7F2AD22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D141D-745E-40D9-BB0C-338C581AC2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A1971-889E-42DB-B733-A3B884E444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308C9F-2F61-4AD7-875C-2EE8D6CE81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6BD0E2-1EDC-411A-9E7A-552F9D58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92E36E-3976-4E44-B726-BD900D8F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529DD8-6A83-4CB5-8881-C7861B00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E2851A-62D3-4220-8C51-54753F52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C7D962-ECDD-4459-90B1-4CEC56E0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C3C65A-3F94-46DF-B1F2-39445336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BBFCC1-55E5-44D6-8954-761C3D74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B10DA9-A93C-4454-8078-DF29F51A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8E6C5-2D19-4D45-AB5B-4B1CC36773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330266-D2E0-4538-9359-38EF8BBC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0174E3-FC37-4ADC-9B1A-CA3308B7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1DFE5C-D74A-45E1-95EC-1B16ED6859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EDFC46-667F-4D45-AB1F-8B742056F4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69403-F0DA-45F2-9542-312EC219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3D75C3-7B83-40CA-AE7E-10EB4B07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5A6ACC-CE43-40FA-AF1A-E6BB25C8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CD6D6F-9F0D-42CC-ABF6-87C34A56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729DFF-5EF7-4093-A4A9-17D25912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C50EA8-322E-4222-95B2-FAC2B744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36A66-AEFF-43A0-9216-A5E46B09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F0D475-92F0-4910-8703-233FC308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AE7AB-EC65-4945-93AB-BFBC3AFA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638713-CC5E-4C2C-A200-A6A54FED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86F43E-7CB9-44B0-B4BA-6D9DC72A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ED4CAB-0552-46B0-A2C4-1D76C8CC5E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7818E-1F83-49F6-BD52-5505D5527E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CB939-830E-458F-980D-583398B9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53065-F7F5-4A1C-A286-C462C351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0B0FA-11CA-416A-B8E1-CC35944C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C3F07-73DD-4D35-A829-5A9CFD35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C5601-90AD-4ED3-BEFA-E1CDF40E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51C0F-5DB2-4597-9F3C-D5C01926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445C0-A192-4F37-A5E1-39A5296F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81266-BB1A-4251-AD83-25CF7477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2E2CC-46EB-47B9-945D-652679B8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D67FA-C68F-4552-A318-5359A910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9C684-7CC3-4EAF-93B5-EA4B50B4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7924A-BBB4-44C5-9DF0-215608F96C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95412E-ABE6-4AE0-8BC8-31EF0153EC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1F4086-9F3F-48AC-87F6-5E993D55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AE18A8-513C-4608-A529-4BA7E0F6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FC4BD-0A4D-42D0-9F0A-5EF8E43B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F2F9EE-D8E8-49B8-9451-D043B05D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B23D31-5CA5-43E9-9961-9ABAFEB3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52EC34-6856-4152-BBB6-2C02CF64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3293EB-BB00-4553-BE5C-F91EFFB8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F60BDC-DEC2-4A80-8DFF-60B035E1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CD5B3C-5A2D-49D9-855F-7863307F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CC2EFF-10D3-491A-BAD2-1EBFE00C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A1737A-FD37-4AC1-A034-ED12F9BC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8F1E00-BAD7-45CF-BC62-DEBE1658A2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4B11CA-E9DE-417A-A804-A319B30642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3537B-E5DF-43B2-B1D8-9168F503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07D99E-1909-4E04-A222-154B34D4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B02FB9-76D2-4380-A21E-6A245F22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C099FE-EFE8-4D27-BB27-6F0F91D8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8B0415-1183-4090-A9DC-C89B4F7F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1A9547-AAF4-4191-838D-DC6E3712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876ECC-EEDD-43C9-8AF4-4B83CF9D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E10EDD-2EBC-4549-B3EC-8030BB2D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79AA26C-B117-4E09-8029-2A39D8A2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BED204-ED5C-4A93-94B9-CEA247DB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2BA736-94AE-4994-A656-1F2FA5FC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C10D6-1784-4B96-B01F-398903E9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1999C4-6361-47EE-8192-F58F1979BB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02F30-F30F-4A2B-B153-12414CF583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B2FD0-38E7-484D-8E2C-1A9C3B3C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3B83C-6926-40EE-B14C-692BFE61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27FD0-0698-4236-92EE-FE6D7FDD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3F5B5-B2CF-4AD1-9961-8FAC627B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33139-8B63-42FE-BB61-66FEF34C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20239-82D3-49E2-AE1D-63C12FCB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F5708-0829-4FE9-957D-05E09E92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AE295-0952-47FE-82DB-8E0E900A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338FF-C34E-4931-942D-897943A9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98AD0-6A12-45B2-B4AF-E165C61D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A45D7-05BA-4105-A599-53CD0DD5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F4C21-2419-4ADA-9A9D-B92385F0D9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AEBF0A-F435-48D7-BF4A-6E8105BAE7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0E122F-EB47-43F8-BFFF-DB149C7F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82E1BB-EB40-4650-A8CF-5BD95455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38A4A8-144C-44D4-BC08-77A020F7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7509EC-03FE-48FB-B71B-5137060B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99024E-AE8C-44E1-A22C-CC45C226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B363C1-06A8-4C45-A63F-9DA50BD4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7B972-7768-4A1D-9C8D-853CFE65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E1A3E-DFE0-4F0F-AC73-053A41AA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269FCE-9944-4902-BD19-366E13A2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7F87DC-9570-4C15-ACCF-E6C697AD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39CF62-99C5-463F-A43B-881EDD16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DB6C27-2545-448C-9FB5-5053668E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2E9324-2500-4DBB-9399-2E999803BC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0AE9D3-DA4C-4E8A-9878-A493C06755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961719-966B-4F87-B20F-E270697C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880A08D-6F41-4A3A-AB4D-AD4B4102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03BA365-E8F2-4A2F-BFEF-84F5CACB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6799E4-6931-47C2-A443-4447C528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048B5-16E3-4F0B-9A43-C96DB7C4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E149AD-E2A7-40DE-B554-C3DF3D89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941D8C-8BA0-4CA0-9182-0856B841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2BB8057-43D8-4E73-8184-9CA88932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4445C75-E499-4FDD-A706-24D92B9D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47F290A-4552-4C95-9479-C95B7374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AA109D-43F3-46A6-8DAB-652836DC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6C1CF85-89C8-4A27-AD45-29B43A2D65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5BD47F-0412-465D-804C-BD86965E27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41D7E8-3822-4AAF-8283-A52E3D88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904237-E8A4-425D-AE54-D0B9A49D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30A66-5A1F-41F9-B5F5-5D97F56C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F621DB-6E73-4F7F-8C3B-A478B5E3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1E2B69-68F8-426A-88BA-9465DB10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FC7D6-872C-4E21-B6EE-9BF634CB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E1D55D-0A9F-40CF-991B-75F11A8B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C82C5-7E8D-4AD8-9286-E9528A73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82918F-473F-4DDE-A2B1-119B45D4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2A9F4-79F5-4BAA-A0DE-B5AB1B93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540B54-7C92-4C37-BA41-F2CD8055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9B24B7-82EE-4FA0-9FF9-41077818FB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3AE0D1-53FF-4523-AF64-91D2DD58FF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F104B-669E-4C4B-A983-E5AA8594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FB20C27-D19E-45F0-9A49-B8161A34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4ABE42-0DFB-44B4-BDEF-2F678D24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2B477EA-4BEA-4DF8-9A85-48DA5E44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759DC0C-76E0-4E10-B259-1DCD47FF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C32E73-09AC-4E8D-BDCF-674D226B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801D98-95F3-4D5E-AAF2-4FC8E473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835B27-4DE6-43D4-A39E-A3713959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4DB7A1-6AE5-4AD7-825D-A37F9CDB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B517C2-8D32-46F3-AA4E-9BAD824E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C92528-9FBE-404B-94BC-AA2F2676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D49CD-4106-432F-85A6-F7087031A9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4209AB8-49DE-4693-BAAD-CA42124219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DF351CB-C11A-4393-84A3-7E12504B50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F0B1BB6-37CD-41D3-93F3-76C7EFEF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00FAAF4-EBF4-4482-85D4-A195E2A4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90E2EAF-FDF0-47CC-B93E-8ECE7228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4189DAF-E826-4E55-B130-6BF79B27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771A932-2528-41F8-9E44-E45D9669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E61C513-447D-442F-8415-36C13E62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4FDD909-967B-470A-9B11-EF22800F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0CFEE5D-28ED-4D72-8A2D-A6A92AD6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F16612-A6B7-43A4-ABFE-ED7D8BA3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23A5F55-78EC-476E-9FA9-D512B0B2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7EF6EFF-DA2B-4E76-A553-4ED4BFFD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B088172-0AFD-4907-BF2F-2EEFA428B5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CB4F19-B486-438E-B137-735DCEB777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68FAC9-281F-4012-AF95-B522CD95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F3A93C-D45D-4346-8092-B5E9384B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463BC5-1088-4AB5-B928-0DD227CD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FD4C9D-8E78-404C-B593-37CBCC64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652794-ABE7-4D74-862F-C5CF1F76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10A7B9-FF55-41FE-A16E-6F4E0723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22DCDB-F28D-4B9E-A73D-746B1087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952691-BA5F-4C81-9169-273BB25A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31646B-6F16-44D4-86DC-1A3E2D12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6C9F78-5DAE-454D-BE99-F02BB8BE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0EB26E-672C-40DB-A0CC-E7A73DFA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8A145A-E8A4-4AD9-97E0-EC0216F781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3E82948-9AA5-4EDB-9D89-9C8229F2EF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6BCAF8C-A517-4E5A-8503-4FB43E77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79FE97A-38BE-44C1-B651-FA4E7A7F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BE1F235-028E-4189-ACCC-03671380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253E5D9-71CF-46FC-8ED1-9132E899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61BC4C-CDE5-45F7-BD30-FBF462B4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D843685-6020-4EB3-9F3E-E9FF1448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6F5AF1E-0981-4AA9-A65E-6F44FFEA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104F50A-F68E-401E-B705-24F44AB6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5FF1B53-9095-40F6-ACB6-B4B8F8D4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5D37F40-F897-4F5D-8044-9ED221FC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71D266C-FC10-4577-9499-EB5DEEE1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2FF59BE-9CB4-46F8-A913-8B24BBF454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57EC8DB-37BE-4275-839D-65A0CA1760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1EDF40D-3F1C-4988-AE67-FF203D02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BFDC5C0-D38C-4FE7-9A13-870FEAEC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90EBED-8DCA-44E9-A9ED-E58BFAC6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F7E73B0-2E8A-4517-9AFF-EEB6E8B8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E1C9915-9891-47EF-9FF7-CDCB20B5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FCA4D8F-C211-4E21-B998-5E62F602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97B97E7-3E80-4545-9722-159A3EF5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E1A678C-6853-4102-8A1B-D536E92D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13A2EFB-ECDF-48DB-B409-D82A023B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A0C126F-C134-4552-B10A-93A9418A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A35E82A-5DC9-4333-BEFA-668C04C1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3B067F5-B7C8-4C63-9379-47A5863C08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92CF23-3EAF-41F5-B709-BE3DCA0CBB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FD5D13-A1F9-4D9F-AD29-30A2DFCE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27C0FA-F63E-41DB-8F15-74F78A4F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1D33CD-84C8-4CB1-9E5D-35010B06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37B538-46C1-4FC9-B193-0DB0493C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702239-3024-4666-8957-BA0F7D88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F72B55-64A0-4E4B-8DD0-358CF45A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972223-F6F4-43BA-8BAD-A3BC11DB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5A9B61-9EA4-461F-BAE4-DF91D932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0DD2B3-7B6B-4F5D-9D61-60C33C47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5EC7C0-2817-40AA-9472-CAA786CD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EE20D4-56B5-4E58-ADE9-1D2E7F4F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26976-32A8-43A2-86A8-29DBD7C3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041C7A-AA0A-46A8-B3A4-3F5B50B4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9C9242-7F33-45F4-A093-8BDC248EC0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9214E9-E04F-4E42-9907-92222BEC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C90216-9AE5-4608-A79E-F04FFCC7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4D8EEB-C43E-41F3-B639-F9D70C8E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186E45-30EF-46AC-8741-9CB21AA3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9E41B6-93D7-46BE-B367-E8245527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301179-9BA6-4FB0-9567-C35FEE24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1F4FB4-0048-4936-9DA3-78E19117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5B5F3F-7074-4459-934B-D75DB473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680CF0-EDE1-4117-89C7-9E8855F7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BFF242-89D9-4011-A63C-9732AC2E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291A00-AC51-4C75-A2CF-A14109B2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201C1A-AAB7-478C-974A-20402124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FEEFA8-EFD4-4936-8281-551CF876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DE5EC3-302B-4BE9-A514-A7291336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2505C9-7E73-4188-996F-4D59C099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88C28F-02EB-4208-9054-206FEB57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A29781-64A8-4DC4-8F03-FF19DF9F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7F9DCD-3F21-4A22-B30A-560AB4C9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DE229A-8C07-484B-AE21-25D37916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29BFB4-AAC7-4436-B5E3-CAE52BBA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BB47EA-D5FF-468C-B812-50910818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AA52BA-4DFC-48CE-BF62-7E6BC23D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6E6355-A553-4B35-B18D-DA6412F1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911B81-B81F-472D-AFC4-6438D2A2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C4F3C6-148E-494E-A6D3-AEC003CF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424C2A-DAAA-4116-B055-9DF30A2E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113D42-B079-463B-AEDC-2AE62001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BE6A4E-8CCE-4F47-B8C3-CA8CEE25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898488-52C0-4397-BD6A-84C05169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BF6CD8-807B-423D-9C87-3B9B281E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67F465-0C1A-4EDE-A3C3-64BDA340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510F57-379B-4031-9F1B-8E918D9A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3F04CD-4C8C-48B7-9DD4-BA6510A8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DCA4EB-C6A9-4C74-8001-5AE8EB5F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E2F158-B5EA-4283-A590-E884C963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F23CDA-E9AD-4904-82BB-E41E8F05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BFF09F-447B-4EE8-B299-467CC0B2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F47FF1-1D8E-47B7-94BE-576EAABB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76A5A5-1817-48A8-9C5E-DFD8054E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A8D7C7-D470-4742-86FC-78DB5496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A02C8B-1F7D-49CA-AE08-070F127F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38915D-931C-499F-862B-798A64BD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DD999A-B3C3-4B4F-8D26-32EDA48C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1D7FD1-43EF-4F95-AF24-48D829D6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DC021E-DB04-4CAA-BAAE-0479D742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DFAF3F-804B-48D6-ACBD-05E9EAA8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E4C316-9D2F-4C27-9884-89AFD790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629464-1515-4201-8E63-B430846E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1F3765-FF99-4E8A-83F9-F53304A2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8F4166-9B51-49FB-8201-6B848700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B28CE3-C9A8-4EA4-A9AF-DB1A6DA8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C65047-AE5B-4AFF-B7C5-C2710F54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D71759-3B77-4954-8968-9A09E7BA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BB4909-EFC6-4584-B595-E089A0F4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C01773-379C-4EBF-9761-A486C6ED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6743CA-0F22-410B-A040-2B6F6EE9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C8A8C5-EE30-44CD-AE27-B65751C9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E54E92-1062-4543-9EEC-AF278788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5B0B08-5643-45D9-A877-AB2DB1A0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468325-2932-4FC2-A1D6-3D6A9F40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7C33C1-AB28-4607-96F1-7D278C64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D5930A-47E2-4529-8837-D40010CA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40631B-0E27-4216-937C-B62F3DB8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8330A9-64B6-4D9B-BB69-1A21554D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8FFAC6-AEE4-4015-833E-2656E979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1F6208-0BFC-4C1F-B68A-F538F222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0952F8-3FB6-4222-92A5-FEAEF670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D731A8-E0DF-4CE1-86BC-A6FAF97F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ED60B8-F116-44FB-A9BF-4E81596E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69CFFE-1D52-4F7E-8D6E-6990ED86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DFE954-91BA-48AF-B748-C8CDFECF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9D7C2C-C7D5-437C-AD64-D5C1B911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B0D490-77D3-4E65-B0A4-AE0E3838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18ED76-A69C-4366-A3C7-0BEB09A4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853264-7F37-48F0-A9F4-E53DD90C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E6249-E17D-4D10-9E3C-9CC44A8CD0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8FB18F-8C7E-4C29-9B3F-544AC31C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8DD844-55E1-4F94-AE22-77A74A6A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272485-58CB-45D6-8D3D-02A9412D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FF41DF-9787-4DF4-944E-6418FCD0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B10448-FD1A-49D3-A2D3-8723E241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4EFD26-A5C4-4420-B6C4-E18DF4FC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D76898-D2E5-47F6-8496-C599E269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60F35A-2D42-4330-9751-CC3878F9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020EB5-3C77-4AF9-B68E-1B147E1B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3FD0A8-C33D-4101-8A33-D9880A3D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45ECB-FC3A-4D5E-8BCE-0C0EA175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652AD3-F44F-470B-BE97-73EF1072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15828B-740E-48A8-8720-E0CD0B8F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2574C7-99FC-41BF-A5DD-A763D200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301F20-4225-44C1-BA84-1D24028F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ADA66D-EBA4-4C36-8AC2-D2ADA5AF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FF3F73-A6CC-406E-BF5B-AF05744D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031742-D174-4FE5-BC3D-9E2B92E6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D2AA07-8F62-4D69-8D73-F78C4F26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3194BF-1F5C-4175-A68C-27E28CA0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68C702-5D31-4E96-BA8E-6EBFDA12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6C4B5-68D8-4F33-AEB1-B9F9BF26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060B91-0DD1-4FEF-BE25-F48141E2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296443-6B7E-4E23-AF10-6DCB9D64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5B31B1-2E93-47D5-BF0B-BAE485E0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B774CA-39A3-49EF-ABFC-EF4B9ED0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D76B5D-6EC1-4EB7-A58F-CC2CDE11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4BA5C4-31A7-4481-9DAC-31623A71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B70F37-A63F-435F-A9E4-B6C22E6C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371CF0-7B58-4EFD-9B96-61FBD762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A1036D-5BCF-497A-94FE-C9F78A79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1EC414-12D3-4249-A595-69B5C07A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350EF-B7CD-47C6-A51E-1605AEE5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9CF2E-C198-4D26-A74A-2D84AFA5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E4E4C2-34EE-42A0-9C74-778B2362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D7CFFC-D132-4EAD-AE58-AE37ADCD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0DEFC9-6F72-45E9-A2F5-A68026BB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B217C5-2E0E-4B18-9D40-20E70D02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C30540-92DE-4DB3-9D56-1859F61F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7021B0-8875-4BA2-AB5B-99D3F38F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CFAC1D-E5B7-4EB6-8D2F-C6145B42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50C937-7F7A-43FC-BEBF-5CDBDB22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CD6D72-BC79-40A6-9F20-A6AB7DC2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0447EE-5AC6-42A2-9D25-82C69B00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C87F9-7206-4F27-B639-8704E559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D25780-311A-497D-87E7-C498A77B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4695A7-6A39-4F8C-8F4E-6BA059B0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7625B3-2528-4D10-A1D0-C2C4783F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5F9649-F279-46AB-9E7C-853150D4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20505E-8F47-4077-A3B6-99033D9C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97D3B2-7AE3-4CF9-8836-970C5CED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7156B4-393E-4FE8-9039-25F4E608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7762BA-0C20-4E0F-AF8E-87C84CD2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5A38AC-C975-4D22-A83F-AE8486CB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69B5FC-D9DF-4EB4-9FE4-5330D7AC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43996-FEF8-490B-80AD-998A8BD8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F4A0DF-7355-40F2-A5B3-DF18229A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E56D46-5D3C-4FD4-A4A8-3002E7E2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3CADB9-F7E4-4706-B477-9106CA58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91A8D8-3734-43F9-9C67-BBF42C5F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37534D-21EA-4AA2-8A0E-B0618F89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1EDC0D-6859-414B-88EE-5A15F58B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6B5ABD-0197-48C7-A14C-FCBBD4E0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069E83-E769-422B-823D-4946212E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D90A80-239A-4DB5-9C2A-1325E4B4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9C3175-A22C-43CF-B233-AF15EE61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893A3-7D2F-4765-BF0B-F5E6119B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0C41B8-A813-49B3-A8F7-C471FB62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6D9837-C1CF-4EE4-8A24-48D84560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0B2990-58B6-42AF-B00C-23ACAED0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1EC6E-F456-4DD4-A311-4B5D37B3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CB3B1-3B64-4B29-BE29-1029264F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EB899-E465-4FCE-AE40-B3992092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E9C56-C7B7-44FF-A406-A939B927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2666E-5835-4282-81F7-A84659F85F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83DC3C-41CD-4F34-B18C-06C7511767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E16E9-86BB-4C03-BF30-57401ED4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E16907-6CAB-4AE3-A4B2-DF88173C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23A75C-6995-4B05-AB3F-CC67F312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81A484-696C-42A9-9885-87483E74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7FCA62-6D51-4428-8DD1-E31B82E2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67AB43-3C22-4F42-ABC3-760C66F6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D99112-A7A5-4D25-AA70-91C7FC31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A17F2B-0E09-4FCC-A0A8-88431CA0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32D168-7622-47FE-AF1C-9DF019E7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086A1C-9184-4BD9-AB69-699A7659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132A80-CB6F-4134-A010-6F371C2B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8E56E-3552-4454-AC19-9F984883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0D176C-5298-40C2-89CE-1BB53773B1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26F714-9312-4563-918A-084367831F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715C19-BB69-44FD-85B1-4D8C4E2A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04C583-83D3-4E5D-8D23-BBFD3F47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6FFCFB-EE41-494E-A625-E0A2B8B7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748624-3C08-4524-9098-FF900B3F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F16116-9801-4624-AB20-EBEB5960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6546D1-C2B5-4E0C-B4F5-376750F2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EBF185-C256-49E2-AE7D-54B89C56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4CE305-B32A-4025-87B0-0B85C592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FDD27-2651-4F9C-8E13-85F22668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86C053-57C9-4073-91DF-3D4E4B6E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12E2B9-CAD8-44A3-897D-AA1CB777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5B81A0-FEE1-4D15-BAA0-EE277D2DAF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586B5-4D67-4371-A9A2-B51D92C18D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804EE-C1DE-4259-88B7-66212A54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695F4-6E05-4303-9798-219F6E28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EAB56-BAE3-454C-95E2-F8D8DF70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556FB-BFC2-4C71-9B74-FFE4EC5A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0A0BF-5295-4D14-A263-5E4E005BB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BCEEA-9806-435E-82E1-35C503BD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679E1-6C89-4C14-B2B3-926DE6CA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0D93E-F496-4733-845E-7A959403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7F466-6F8C-462E-A13E-BDF75794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9EF2A-2FCD-4DD7-AB92-27842547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FE91D-BDFC-490B-B3EC-2B5EA52B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C1389-9C92-4564-A1CE-8B46A9FC1E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35E3C2-80C3-46C9-ADD0-F6C53BF559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0BD073-9CA8-4AAB-B1D4-B8BD3E28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16115D-4579-4F00-8F93-CF7F221D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B09B03-F429-4C42-9277-6ABE9844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7622D6-AA01-4F14-840D-5233C397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CCF17-9410-4CAB-BAE6-90D666B3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23C7C8-CCCD-4D73-BC18-C4D72874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CE2A7C-8264-4E05-BDD6-BBDCCF6D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A68C20-9BB5-4A78-A58C-C9176AE2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6EE1AE-7B97-4099-A39C-9A6E3F5A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BB54B6-275A-4E91-8BCC-5BD8977D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382584-C906-4890-A0D7-E9ECDE7A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55323D-9F03-4BE7-B768-6EE5EE630D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3CA62B-13B8-43D0-B338-E20B1AABD4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D08992-B068-4891-8512-734159C3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C2B5C1-9016-4DB2-B2D8-2F1A6BB5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481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481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481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482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482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482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482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3502-D9BF-414F-BEE0-FB120103B26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8E19-AFD3-4E83-99BF-2E5BE58D67F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D1ED-871E-4F42-AF81-13C04BA108D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A33D-4B7C-4BD4-8B6D-1253F56E347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8097-1E0C-4724-BF02-5D29B8A51EE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F9A4-9862-4243-9319-6BC8E26905D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8E54-A6A2-4C31-B2CC-D8B22C899A0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72D4-F3E0-49F7-80D2-F871F16FA50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076C-AF23-46E2-9386-7CAAD8FD3E7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98C2-040A-4A8D-BBCB-04CCCDCA4A9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DEC1-8116-4EE4-8FFE-69415A1297D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5F0F-C401-43BA-8A13-C1E0B832FA4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F84E-045F-4D8B-A6D3-C2DD14EC9B0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547D-8E23-485C-8700-6494C9D628D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F1BF-679B-44DD-A821-D6668A99542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6733-E332-4BFC-A1CF-725EF99138A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AA38-5352-4158-B495-492221BE95C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573B-2861-4220-BB82-1FA09FFDC0D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0EC2-EFAB-4BD1-87AE-6C071F7A323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7812-C3E3-4189-94C6-F9334AAC3B8F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0371-964E-477D-9DED-D9C3751068AA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40F3-9AC0-4528-9120-A92D473B668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4D4F-B3E0-42BE-8C71-798AAB7B3444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ADD6-C837-4F12-B90C-D2C73D16AEBB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A5D9-6A12-4FD2-A266-C1748FF86C7D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B625-9734-4A47-A059-C97EEB9D395C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5DCC-69E6-415B-ABAE-79702B87D47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6FE0-75E8-4D86-BA4F-EBB22A8E9855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759C-9481-4631-9E60-C18EB2F10A24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AF50-0FA6-4D8A-B504-77267E4CAFC8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584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584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584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584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584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584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584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6B29-B809-48E0-9B3C-B4044D2B7C8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0063-D460-4BD5-A18E-58966697749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8205-1D33-41CC-9679-B6976712BCD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C7CF-F1F2-44CB-B2B5-30E5E38ADFE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F8F7-A473-4A21-82D0-F5D393A97F9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BEC3-413A-45AD-BB22-0A8B51BA207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1.gif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3.gif"/><Relationship Id="rId8" Type="http://schemas.openxmlformats.org/officeDocument/2006/relationships/image" Target="../media/image23.gif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image" Target="../media/image21.gif"/><Relationship Id="rId12" Type="http://schemas.openxmlformats.org/officeDocument/2006/relationships/image" Target="../media/image21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1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30721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30722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692360" y="620640"/>
            <a:ext cx="528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扇形统计图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1116000" y="213372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选择合适的统计图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TextBox 13"/>
          <p:cNvSpPr/>
          <p:nvPr/>
        </p:nvSpPr>
        <p:spPr>
          <a:xfrm>
            <a:off x="1209600" y="6307200"/>
            <a:ext cx="61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答：我国共有农村网民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3136000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人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96" name="图片 28674" descr="104"/>
          <p:cNvPicPr/>
          <p:nvPr/>
        </p:nvPicPr>
        <p:blipFill>
          <a:blip r:embed="rId1"/>
          <a:stretch/>
        </p:blipFill>
        <p:spPr>
          <a:xfrm>
            <a:off x="5527800" y="2049480"/>
            <a:ext cx="3062160" cy="2878200"/>
          </a:xfrm>
          <a:prstGeom prst="rect">
            <a:avLst/>
          </a:prstGeom>
          <a:ln w="0">
            <a:noFill/>
          </a:ln>
        </p:spPr>
      </p:pic>
      <p:grpSp>
        <p:nvGrpSpPr>
          <p:cNvPr id="1697" name="组合 28675"/>
          <p:cNvGrpSpPr/>
          <p:nvPr/>
        </p:nvGrpSpPr>
        <p:grpSpPr>
          <a:xfrm>
            <a:off x="5651640" y="2060640"/>
            <a:ext cx="3124080" cy="2878200"/>
            <a:chOff x="5651640" y="2060640"/>
            <a:chExt cx="3124080" cy="2878200"/>
          </a:xfrm>
        </p:grpSpPr>
        <p:pic>
          <p:nvPicPr>
            <p:cNvPr id="1698" name="图片 28676" descr="103"/>
            <p:cNvPicPr/>
            <p:nvPr/>
          </p:nvPicPr>
          <p:blipFill>
            <a:blip r:embed="rId2"/>
            <a:stretch/>
          </p:blipFill>
          <p:spPr>
            <a:xfrm>
              <a:off x="5651640" y="2060640"/>
              <a:ext cx="3124080" cy="28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9" name="文本框 28677"/>
            <p:cNvSpPr/>
            <p:nvPr/>
          </p:nvSpPr>
          <p:spPr>
            <a:xfrm>
              <a:off x="5992920" y="292428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农村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0" name="文本框 28678"/>
            <p:cNvSpPr/>
            <p:nvPr/>
          </p:nvSpPr>
          <p:spPr>
            <a:xfrm>
              <a:off x="6372360" y="38037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城镇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701" name="TextBox 29"/>
          <p:cNvSpPr/>
          <p:nvPr/>
        </p:nvSpPr>
        <p:spPr>
          <a:xfrm>
            <a:off x="6270480" y="2957400"/>
            <a:ext cx="903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农村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2" name="TextBox 30"/>
          <p:cNvSpPr/>
          <p:nvPr/>
        </p:nvSpPr>
        <p:spPr>
          <a:xfrm>
            <a:off x="6996240" y="3844800"/>
            <a:ext cx="903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城镇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3" name="文本框 28681"/>
          <p:cNvSpPr/>
          <p:nvPr/>
        </p:nvSpPr>
        <p:spPr>
          <a:xfrm>
            <a:off x="6012000" y="3260880"/>
            <a:ext cx="8636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27.1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4" name="文本框 28682"/>
          <p:cNvSpPr/>
          <p:nvPr/>
        </p:nvSpPr>
        <p:spPr>
          <a:xfrm>
            <a:off x="6993000" y="3855960"/>
            <a:ext cx="8636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72.9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5" name="TextBox 13"/>
          <p:cNvSpPr/>
          <p:nvPr/>
        </p:nvSpPr>
        <p:spPr>
          <a:xfrm>
            <a:off x="817560" y="5842080"/>
            <a:ext cx="61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4600000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－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464000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3136000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（人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6" name="TextBox 28"/>
          <p:cNvSpPr/>
          <p:nvPr/>
        </p:nvSpPr>
        <p:spPr>
          <a:xfrm>
            <a:off x="5564160" y="1992240"/>
            <a:ext cx="1258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011     12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07" name="图片 28685" descr="102"/>
          <p:cNvPicPr/>
          <p:nvPr/>
        </p:nvPicPr>
        <p:blipFill>
          <a:blip r:embed="rId3"/>
          <a:stretch/>
        </p:blipFill>
        <p:spPr>
          <a:xfrm>
            <a:off x="324000" y="1989000"/>
            <a:ext cx="4587840" cy="3057840"/>
          </a:xfrm>
          <a:prstGeom prst="rect">
            <a:avLst/>
          </a:prstGeom>
          <a:ln w="0">
            <a:noFill/>
          </a:ln>
        </p:spPr>
      </p:pic>
      <p:sp>
        <p:nvSpPr>
          <p:cNvPr id="1708" name="TextBox 3"/>
          <p:cNvSpPr/>
          <p:nvPr/>
        </p:nvSpPr>
        <p:spPr>
          <a:xfrm>
            <a:off x="98280" y="1413000"/>
            <a:ext cx="95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截至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1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年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，全国农村网民规模为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46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亿，比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1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年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月末增加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46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万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9" name="TextBox 13"/>
          <p:cNvSpPr/>
          <p:nvPr/>
        </p:nvSpPr>
        <p:spPr>
          <a:xfrm>
            <a:off x="1204920" y="6302520"/>
            <a:ext cx="61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答：我国共大约有网民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38745387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人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0" name="TextBox 13"/>
          <p:cNvSpPr/>
          <p:nvPr/>
        </p:nvSpPr>
        <p:spPr>
          <a:xfrm>
            <a:off x="419040" y="538308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截至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1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年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月末，我国共有网民多少人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1" name="TextBox 13"/>
          <p:cNvSpPr/>
          <p:nvPr/>
        </p:nvSpPr>
        <p:spPr>
          <a:xfrm>
            <a:off x="1206360" y="5845320"/>
            <a:ext cx="61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4600000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÷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7.1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宋体"/>
              </a:rPr>
              <a:t>%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≈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538745387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（人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2" name="TextBox 13"/>
          <p:cNvSpPr/>
          <p:nvPr/>
        </p:nvSpPr>
        <p:spPr>
          <a:xfrm>
            <a:off x="425520" y="53769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1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年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月末，我国共有农村网民多少人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3" name="TextBox 24"/>
          <p:cNvSpPr/>
          <p:nvPr/>
        </p:nvSpPr>
        <p:spPr>
          <a:xfrm>
            <a:off x="423720" y="53769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请您把下面的扇形统计图补充完整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运用知识</a:t>
            </a:r>
            <a:endParaRPr b="0" i="1" lang="en-US" sz="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"/>
                            </p:stCondLst>
                            <p:childTnLst>
                              <p:par>
                                <p:cTn id="2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"/>
                            </p:stCondLst>
                            <p:childTnLst>
                              <p:par>
                                <p:cTn id="2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"/>
                            </p:stCondLst>
                            <p:childTnLst>
                              <p:par>
                                <p:cTn id="2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1"/>
                            </p:stCondLst>
                            <p:childTnLst>
                              <p:par>
                                <p:cTn id="26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"/>
                            </p:stCondLst>
                            <p:childTnLst>
                              <p:par>
                                <p:cTn id="2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"/>
                            </p:stCondLst>
                            <p:childTnLst>
                              <p:par>
                                <p:cTn id="28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6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7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718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719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720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21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722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723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724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725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726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一、复习导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5" name="组合 19458"/>
          <p:cNvGrpSpPr/>
          <p:nvPr/>
        </p:nvGrpSpPr>
        <p:grpSpPr>
          <a:xfrm>
            <a:off x="826920" y="1628640"/>
            <a:ext cx="4392720" cy="1656000"/>
            <a:chOff x="826920" y="1628640"/>
            <a:chExt cx="4392720" cy="1656000"/>
          </a:xfrm>
        </p:grpSpPr>
        <p:pic>
          <p:nvPicPr>
            <p:cNvPr id="1486" name="Picture 20" descr="男天使副本"/>
            <p:cNvPicPr/>
            <p:nvPr/>
          </p:nvPicPr>
          <p:blipFill>
            <a:blip r:embed="rId1"/>
            <a:stretch/>
          </p:blipFill>
          <p:spPr>
            <a:xfrm>
              <a:off x="826920" y="1628640"/>
              <a:ext cx="15242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7" name="AutoShape 27"/>
            <p:cNvSpPr/>
            <p:nvPr/>
          </p:nvSpPr>
          <p:spPr>
            <a:xfrm>
              <a:off x="2700360" y="1916280"/>
              <a:ext cx="2519280" cy="1368360"/>
            </a:xfrm>
            <a:prstGeom prst="wedgeRoundRectCallout">
              <a:avLst>
                <a:gd name="adj1" fmla="val -62412"/>
                <a:gd name="adj2" fmla="val -869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我们已经学过哪些统计图了？它们各有什么优点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1488" name="对象 19461" descr=""/>
          <p:cNvPicPr/>
          <p:nvPr/>
        </p:nvPicPr>
        <p:blipFill>
          <a:blip r:embed="rId2"/>
          <a:stretch/>
        </p:blipFill>
        <p:spPr>
          <a:xfrm>
            <a:off x="1523880" y="1400040"/>
            <a:ext cx="6096240" cy="40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9" name=""/>
          <p:cNvGraphicFramePr/>
          <p:nvPr/>
        </p:nvGraphicFramePr>
        <p:xfrm>
          <a:off x="1187280" y="3429000"/>
          <a:ext cx="7345440" cy="3114720"/>
        </p:xfrm>
        <a:graphic>
          <a:graphicData uri="http://schemas.openxmlformats.org/drawingml/2006/table">
            <a:tbl>
              <a:tblPr/>
              <a:tblGrid>
                <a:gridCol w="2592360"/>
                <a:gridCol w="47530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名称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优点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条形统计图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能清楚地看出数量的多少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折线统计图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不仅可以反映数量的多少，还能看出数量增减变化趋势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扇形统计图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能清楚地反映出各部分与整体的关系</a:t>
                      </a:r>
                      <a:endParaRPr b="0" i="1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0" name="矩形 19480"/>
          <p:cNvSpPr/>
          <p:nvPr/>
        </p:nvSpPr>
        <p:spPr>
          <a:xfrm>
            <a:off x="2063520" y="3483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TextBox 13"/>
          <p:cNvSpPr/>
          <p:nvPr/>
        </p:nvSpPr>
        <p:spPr>
          <a:xfrm>
            <a:off x="971640" y="16239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下面几组数据分别选用哪种统计图表示更合适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3" name="矩形 20483"/>
          <p:cNvSpPr/>
          <p:nvPr/>
        </p:nvSpPr>
        <p:spPr>
          <a:xfrm>
            <a:off x="2988000" y="2077920"/>
            <a:ext cx="30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绿荫小学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07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－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1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年校园内树木总量变化情况统计表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94" name="图片 20484" descr="92"/>
          <p:cNvPicPr/>
          <p:nvPr/>
        </p:nvPicPr>
        <p:blipFill>
          <a:blip r:embed="rId1"/>
          <a:stretch/>
        </p:blipFill>
        <p:spPr>
          <a:xfrm>
            <a:off x="1469880" y="2492280"/>
            <a:ext cx="6197760" cy="1079640"/>
          </a:xfrm>
          <a:prstGeom prst="rect">
            <a:avLst/>
          </a:prstGeom>
          <a:ln w="0">
            <a:noFill/>
          </a:ln>
        </p:spPr>
      </p:pic>
      <p:sp>
        <p:nvSpPr>
          <p:cNvPr id="1495" name="矩形 20485"/>
          <p:cNvSpPr/>
          <p:nvPr/>
        </p:nvSpPr>
        <p:spPr>
          <a:xfrm>
            <a:off x="3686400" y="3587760"/>
            <a:ext cx="15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1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年绿荫小学校园内各种树木所占百分比情况统计表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96" name="图片 20486" descr="93"/>
          <p:cNvPicPr/>
          <p:nvPr/>
        </p:nvPicPr>
        <p:blipFill>
          <a:blip r:embed="rId2"/>
          <a:stretch/>
        </p:blipFill>
        <p:spPr>
          <a:xfrm>
            <a:off x="1461960" y="4038480"/>
            <a:ext cx="6089760" cy="1079640"/>
          </a:xfrm>
          <a:prstGeom prst="rect">
            <a:avLst/>
          </a:prstGeom>
          <a:ln w="0">
            <a:noFill/>
          </a:ln>
        </p:spPr>
      </p:pic>
      <p:sp>
        <p:nvSpPr>
          <p:cNvPr id="1497" name="矩形 20487"/>
          <p:cNvSpPr/>
          <p:nvPr/>
        </p:nvSpPr>
        <p:spPr>
          <a:xfrm>
            <a:off x="2964240" y="5075280"/>
            <a:ext cx="17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1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年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荫小学校园内各种树木数量统计表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98" name="图片 20488" descr="94"/>
          <p:cNvPicPr/>
          <p:nvPr/>
        </p:nvPicPr>
        <p:blipFill>
          <a:blip r:embed="rId3"/>
          <a:stretch/>
        </p:blipFill>
        <p:spPr>
          <a:xfrm>
            <a:off x="1476360" y="5478480"/>
            <a:ext cx="6272280" cy="1079640"/>
          </a:xfrm>
          <a:prstGeom prst="rect">
            <a:avLst/>
          </a:prstGeom>
          <a:ln w="0">
            <a:noFill/>
          </a:ln>
        </p:spPr>
      </p:pic>
      <p:sp>
        <p:nvSpPr>
          <p:cNvPr id="1499" name="矩形 20490"/>
          <p:cNvSpPr/>
          <p:nvPr/>
        </p:nvSpPr>
        <p:spPr>
          <a:xfrm>
            <a:off x="2063520" y="3483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0" name="组合 21505"/>
          <p:cNvGrpSpPr/>
          <p:nvPr/>
        </p:nvGrpSpPr>
        <p:grpSpPr>
          <a:xfrm>
            <a:off x="395280" y="3076560"/>
            <a:ext cx="8424720" cy="3407760"/>
            <a:chOff x="395280" y="3076560"/>
            <a:chExt cx="8424720" cy="3407760"/>
          </a:xfrm>
        </p:grpSpPr>
        <p:pic>
          <p:nvPicPr>
            <p:cNvPr id="1501" name="图片 21506" descr="95"/>
            <p:cNvPicPr/>
            <p:nvPr/>
          </p:nvPicPr>
          <p:blipFill>
            <a:blip r:embed="rId1"/>
            <a:stretch/>
          </p:blipFill>
          <p:spPr>
            <a:xfrm>
              <a:off x="969840" y="3556080"/>
              <a:ext cx="7345440" cy="26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2" name="文本框 21507"/>
            <p:cNvSpPr/>
            <p:nvPr/>
          </p:nvSpPr>
          <p:spPr>
            <a:xfrm>
              <a:off x="1547640" y="60152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00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3" name="文本框 21508"/>
            <p:cNvSpPr/>
            <p:nvPr/>
          </p:nvSpPr>
          <p:spPr>
            <a:xfrm>
              <a:off x="2823840" y="60199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00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4" name="文本框 21509"/>
            <p:cNvSpPr/>
            <p:nvPr/>
          </p:nvSpPr>
          <p:spPr>
            <a:xfrm>
              <a:off x="4062240" y="60199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009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5" name="文本框 21510"/>
            <p:cNvSpPr/>
            <p:nvPr/>
          </p:nvSpPr>
          <p:spPr>
            <a:xfrm>
              <a:off x="5321160" y="60246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01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6" name="文本框 21511"/>
            <p:cNvSpPr/>
            <p:nvPr/>
          </p:nvSpPr>
          <p:spPr>
            <a:xfrm>
              <a:off x="6576840" y="60102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01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7" name="文本框 21512"/>
            <p:cNvSpPr/>
            <p:nvPr/>
          </p:nvSpPr>
          <p:spPr>
            <a:xfrm>
              <a:off x="7956360" y="60102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年份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8" name="文本框 21513"/>
            <p:cNvSpPr/>
            <p:nvPr/>
          </p:nvSpPr>
          <p:spPr>
            <a:xfrm>
              <a:off x="431640" y="30765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总量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／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棵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9" name="文本框 21514"/>
            <p:cNvSpPr/>
            <p:nvPr/>
          </p:nvSpPr>
          <p:spPr>
            <a:xfrm>
              <a:off x="695160" y="57848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0" name="文本框 21515"/>
            <p:cNvSpPr/>
            <p:nvPr/>
          </p:nvSpPr>
          <p:spPr>
            <a:xfrm>
              <a:off x="539640" y="5346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1" name="文本框 21516"/>
            <p:cNvSpPr/>
            <p:nvPr/>
          </p:nvSpPr>
          <p:spPr>
            <a:xfrm>
              <a:off x="395280" y="4973760"/>
              <a:ext cx="87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2" name="文本框 21517"/>
            <p:cNvSpPr/>
            <p:nvPr/>
          </p:nvSpPr>
          <p:spPr>
            <a:xfrm>
              <a:off x="409320" y="4551480"/>
              <a:ext cx="87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5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3" name="文本框 21518"/>
            <p:cNvSpPr/>
            <p:nvPr/>
          </p:nvSpPr>
          <p:spPr>
            <a:xfrm>
              <a:off x="395280" y="4148280"/>
              <a:ext cx="87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0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4" name="文本框 21519"/>
            <p:cNvSpPr/>
            <p:nvPr/>
          </p:nvSpPr>
          <p:spPr>
            <a:xfrm>
              <a:off x="395280" y="3740400"/>
              <a:ext cx="87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5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15" name="Rectangle 5"/>
          <p:cNvSpPr/>
          <p:nvPr/>
        </p:nvSpPr>
        <p:spPr>
          <a:xfrm>
            <a:off x="1646280" y="5224320"/>
            <a:ext cx="622080" cy="809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6" name="Text Box 6"/>
          <p:cNvSpPr/>
          <p:nvPr/>
        </p:nvSpPr>
        <p:spPr>
          <a:xfrm>
            <a:off x="1655280" y="47768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00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7" name="Rectangle 7"/>
          <p:cNvSpPr/>
          <p:nvPr/>
        </p:nvSpPr>
        <p:spPr>
          <a:xfrm>
            <a:off x="2889360" y="5022720"/>
            <a:ext cx="622080" cy="1019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8" name="Text Box 8"/>
          <p:cNvSpPr/>
          <p:nvPr/>
        </p:nvSpPr>
        <p:spPr>
          <a:xfrm>
            <a:off x="2888640" y="460836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20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9" name="Rectangle 9"/>
          <p:cNvSpPr/>
          <p:nvPr/>
        </p:nvSpPr>
        <p:spPr>
          <a:xfrm>
            <a:off x="4138560" y="4815000"/>
            <a:ext cx="622440" cy="1224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0" name="Text Box 11"/>
          <p:cNvSpPr/>
          <p:nvPr/>
        </p:nvSpPr>
        <p:spPr>
          <a:xfrm>
            <a:off x="4141080" y="43876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50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1" name="Rectangle 13"/>
          <p:cNvSpPr/>
          <p:nvPr/>
        </p:nvSpPr>
        <p:spPr>
          <a:xfrm>
            <a:off x="5389560" y="4606920"/>
            <a:ext cx="622440" cy="1430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2" name="Text Box 14"/>
          <p:cNvSpPr/>
          <p:nvPr/>
        </p:nvSpPr>
        <p:spPr>
          <a:xfrm>
            <a:off x="5365080" y="41958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70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3" name="Rectangle 16"/>
          <p:cNvSpPr/>
          <p:nvPr/>
        </p:nvSpPr>
        <p:spPr>
          <a:xfrm>
            <a:off x="6632640" y="4383000"/>
            <a:ext cx="622080" cy="165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4" name="Text Box 17"/>
          <p:cNvSpPr/>
          <p:nvPr/>
        </p:nvSpPr>
        <p:spPr>
          <a:xfrm>
            <a:off x="6608160" y="39337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0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5" name="矩形 21530"/>
          <p:cNvSpPr/>
          <p:nvPr/>
        </p:nvSpPr>
        <p:spPr>
          <a:xfrm>
            <a:off x="2988000" y="1413000"/>
            <a:ext cx="30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绿荫小学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07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－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1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年校园内树木总量变化情况统计表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26" name="图片 21531" descr="92"/>
          <p:cNvPicPr/>
          <p:nvPr/>
        </p:nvPicPr>
        <p:blipFill>
          <a:blip r:embed="rId2"/>
          <a:stretch/>
        </p:blipFill>
        <p:spPr>
          <a:xfrm>
            <a:off x="1469880" y="1827360"/>
            <a:ext cx="6197760" cy="1079280"/>
          </a:xfrm>
          <a:prstGeom prst="rect">
            <a:avLst/>
          </a:prstGeom>
          <a:ln w="0">
            <a:noFill/>
          </a:ln>
        </p:spPr>
      </p:pic>
      <p:sp>
        <p:nvSpPr>
          <p:cNvPr id="1527" name="矩形 21532"/>
          <p:cNvSpPr/>
          <p:nvPr/>
        </p:nvSpPr>
        <p:spPr>
          <a:xfrm>
            <a:off x="2668320" y="3068640"/>
            <a:ext cx="29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荫小学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07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－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1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年校园内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树木总量变化情况统计图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9" name="矩形 21535"/>
          <p:cNvSpPr/>
          <p:nvPr/>
        </p:nvSpPr>
        <p:spPr>
          <a:xfrm>
            <a:off x="2063520" y="3483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0" name="矩形 21536"/>
          <p:cNvSpPr/>
          <p:nvPr/>
        </p:nvSpPr>
        <p:spPr>
          <a:xfrm>
            <a:off x="2279520" y="36990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1" name="图片 22529" descr="95"/>
          <p:cNvPicPr/>
          <p:nvPr/>
        </p:nvPicPr>
        <p:blipFill>
          <a:blip r:embed="rId1"/>
          <a:stretch/>
        </p:blipFill>
        <p:spPr>
          <a:xfrm>
            <a:off x="1004760" y="3692520"/>
            <a:ext cx="7345440" cy="2603520"/>
          </a:xfrm>
          <a:prstGeom prst="rect">
            <a:avLst/>
          </a:prstGeom>
          <a:ln w="0">
            <a:noFill/>
          </a:ln>
        </p:spPr>
      </p:pic>
      <p:sp>
        <p:nvSpPr>
          <p:cNvPr id="1532" name="文本框 22530"/>
          <p:cNvSpPr/>
          <p:nvPr/>
        </p:nvSpPr>
        <p:spPr>
          <a:xfrm>
            <a:off x="1353960" y="61516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07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3" name="文本框 22531"/>
          <p:cNvSpPr/>
          <p:nvPr/>
        </p:nvSpPr>
        <p:spPr>
          <a:xfrm>
            <a:off x="2556000" y="6156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08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4" name="文本框 22532"/>
          <p:cNvSpPr/>
          <p:nvPr/>
        </p:nvSpPr>
        <p:spPr>
          <a:xfrm>
            <a:off x="3813120" y="6156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09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5" name="文本框 22533"/>
          <p:cNvSpPr/>
          <p:nvPr/>
        </p:nvSpPr>
        <p:spPr>
          <a:xfrm>
            <a:off x="5067360" y="61610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10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6" name="文本框 22534"/>
          <p:cNvSpPr/>
          <p:nvPr/>
        </p:nvSpPr>
        <p:spPr>
          <a:xfrm>
            <a:off x="6291360" y="6146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1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7" name="文本框 22535"/>
          <p:cNvSpPr/>
          <p:nvPr/>
        </p:nvSpPr>
        <p:spPr>
          <a:xfrm>
            <a:off x="7991640" y="614664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年份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8" name="文本框 22536"/>
          <p:cNvSpPr/>
          <p:nvPr/>
        </p:nvSpPr>
        <p:spPr>
          <a:xfrm>
            <a:off x="466560" y="3213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总量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／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棵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9" name="文本框 22537"/>
          <p:cNvSpPr/>
          <p:nvPr/>
        </p:nvSpPr>
        <p:spPr>
          <a:xfrm>
            <a:off x="730080" y="5921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0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0" name="文本框 22538"/>
          <p:cNvSpPr/>
          <p:nvPr/>
        </p:nvSpPr>
        <p:spPr>
          <a:xfrm>
            <a:off x="574560" y="54831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50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1" name="文本框 22539"/>
          <p:cNvSpPr/>
          <p:nvPr/>
        </p:nvSpPr>
        <p:spPr>
          <a:xfrm>
            <a:off x="430200" y="511020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00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2" name="文本框 22540"/>
          <p:cNvSpPr/>
          <p:nvPr/>
        </p:nvSpPr>
        <p:spPr>
          <a:xfrm>
            <a:off x="444600" y="468792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50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3" name="文本框 22541"/>
          <p:cNvSpPr/>
          <p:nvPr/>
        </p:nvSpPr>
        <p:spPr>
          <a:xfrm>
            <a:off x="430200" y="428472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0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4" name="文本框 22542"/>
          <p:cNvSpPr/>
          <p:nvPr/>
        </p:nvSpPr>
        <p:spPr>
          <a:xfrm>
            <a:off x="430200" y="387684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50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5" name="Text Box 6"/>
          <p:cNvSpPr/>
          <p:nvPr/>
        </p:nvSpPr>
        <p:spPr>
          <a:xfrm>
            <a:off x="1371240" y="48610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00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6" name="Text Box 12"/>
          <p:cNvSpPr/>
          <p:nvPr/>
        </p:nvSpPr>
        <p:spPr>
          <a:xfrm>
            <a:off x="2634840" y="47912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20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7" name="Text Box 13"/>
          <p:cNvSpPr/>
          <p:nvPr/>
        </p:nvSpPr>
        <p:spPr>
          <a:xfrm>
            <a:off x="3887280" y="45356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50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8" name="Text Box 14"/>
          <p:cNvSpPr/>
          <p:nvPr/>
        </p:nvSpPr>
        <p:spPr>
          <a:xfrm>
            <a:off x="5139720" y="43354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70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9" name="Text Box 15"/>
          <p:cNvSpPr/>
          <p:nvPr/>
        </p:nvSpPr>
        <p:spPr>
          <a:xfrm>
            <a:off x="6363720" y="40766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0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0" name="Line 17"/>
          <p:cNvSpPr/>
          <p:nvPr/>
        </p:nvSpPr>
        <p:spPr>
          <a:xfrm flipV="1">
            <a:off x="1684440" y="5230800"/>
            <a:ext cx="1311120" cy="1144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1" name="Line 19"/>
          <p:cNvSpPr/>
          <p:nvPr/>
        </p:nvSpPr>
        <p:spPr>
          <a:xfrm flipV="1">
            <a:off x="4157640" y="4797360"/>
            <a:ext cx="1278000" cy="1555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2" name="Line 20"/>
          <p:cNvSpPr/>
          <p:nvPr/>
        </p:nvSpPr>
        <p:spPr>
          <a:xfrm flipV="1">
            <a:off x="5392800" y="4536720"/>
            <a:ext cx="1297080" cy="260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3" name="Oval 10"/>
          <p:cNvSpPr/>
          <p:nvPr/>
        </p:nvSpPr>
        <p:spPr>
          <a:xfrm>
            <a:off x="6642000" y="4498920"/>
            <a:ext cx="730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4" name="Oval 9"/>
          <p:cNvSpPr/>
          <p:nvPr/>
        </p:nvSpPr>
        <p:spPr>
          <a:xfrm>
            <a:off x="5392800" y="4757760"/>
            <a:ext cx="730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5" name="Line 18"/>
          <p:cNvSpPr/>
          <p:nvPr/>
        </p:nvSpPr>
        <p:spPr>
          <a:xfrm flipV="1">
            <a:off x="2995560" y="4941360"/>
            <a:ext cx="1216080" cy="2890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6" name="Oval 8"/>
          <p:cNvSpPr/>
          <p:nvPr/>
        </p:nvSpPr>
        <p:spPr>
          <a:xfrm>
            <a:off x="4149720" y="4921200"/>
            <a:ext cx="730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7" name="Oval 7"/>
          <p:cNvSpPr/>
          <p:nvPr/>
        </p:nvSpPr>
        <p:spPr>
          <a:xfrm>
            <a:off x="2895480" y="5195880"/>
            <a:ext cx="730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8" name="Oval 5"/>
          <p:cNvSpPr/>
          <p:nvPr/>
        </p:nvSpPr>
        <p:spPr>
          <a:xfrm>
            <a:off x="1647720" y="5310360"/>
            <a:ext cx="730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9" name="矩形 22557"/>
          <p:cNvSpPr/>
          <p:nvPr/>
        </p:nvSpPr>
        <p:spPr>
          <a:xfrm>
            <a:off x="2988000" y="1413000"/>
            <a:ext cx="30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绿荫小学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07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－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1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年校园内树木总量变化情况统计表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60" name="图片 22558" descr="92"/>
          <p:cNvPicPr/>
          <p:nvPr/>
        </p:nvPicPr>
        <p:blipFill>
          <a:blip r:embed="rId2"/>
          <a:stretch/>
        </p:blipFill>
        <p:spPr>
          <a:xfrm>
            <a:off x="1469880" y="1827360"/>
            <a:ext cx="6197760" cy="1079280"/>
          </a:xfrm>
          <a:prstGeom prst="rect">
            <a:avLst/>
          </a:prstGeom>
          <a:ln w="0">
            <a:noFill/>
          </a:ln>
        </p:spPr>
      </p:pic>
      <p:sp>
        <p:nvSpPr>
          <p:cNvPr id="1561" name="矩形 22559"/>
          <p:cNvSpPr/>
          <p:nvPr/>
        </p:nvSpPr>
        <p:spPr>
          <a:xfrm>
            <a:off x="2668320" y="3068640"/>
            <a:ext cx="29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荫小学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07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－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1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年校园内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树木总量变化情况统计图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TextBox 1"/>
          <p:cNvSpPr/>
          <p:nvPr/>
        </p:nvSpPr>
        <p:spPr>
          <a:xfrm>
            <a:off x="684360" y="5950080"/>
            <a:ext cx="78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用条形统计图和折线统计图都可以表示出数量的变化。折线统计图更能直观地表示出数量随着时间的变化趋势。 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4" name="矩形 23554"/>
          <p:cNvSpPr/>
          <p:nvPr/>
        </p:nvSpPr>
        <p:spPr>
          <a:xfrm>
            <a:off x="2124720" y="1413000"/>
            <a:ext cx="30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绿荫小学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07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－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1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年校园内树木总量变化情况统计表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65" name="图片 23555" descr="92"/>
          <p:cNvPicPr/>
          <p:nvPr/>
        </p:nvPicPr>
        <p:blipFill>
          <a:blip r:embed="rId1"/>
          <a:stretch/>
        </p:blipFill>
        <p:spPr>
          <a:xfrm>
            <a:off x="606600" y="1827360"/>
            <a:ext cx="619740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566" name="组合 23556"/>
          <p:cNvGrpSpPr/>
          <p:nvPr/>
        </p:nvGrpSpPr>
        <p:grpSpPr>
          <a:xfrm>
            <a:off x="19080" y="2970360"/>
            <a:ext cx="5056200" cy="1967040"/>
            <a:chOff x="19080" y="2970360"/>
            <a:chExt cx="5056200" cy="1967040"/>
          </a:xfrm>
        </p:grpSpPr>
        <p:grpSp>
          <p:nvGrpSpPr>
            <p:cNvPr id="1567" name="组合 23557"/>
            <p:cNvGrpSpPr/>
            <p:nvPr/>
          </p:nvGrpSpPr>
          <p:grpSpPr>
            <a:xfrm>
              <a:off x="19080" y="2970360"/>
              <a:ext cx="5056200" cy="1967040"/>
              <a:chOff x="19080" y="2970360"/>
              <a:chExt cx="5056200" cy="1967040"/>
            </a:xfrm>
          </p:grpSpPr>
          <p:grpSp>
            <p:nvGrpSpPr>
              <p:cNvPr id="1568" name="组合 23558"/>
              <p:cNvGrpSpPr/>
              <p:nvPr/>
            </p:nvGrpSpPr>
            <p:grpSpPr>
              <a:xfrm>
                <a:off x="19080" y="2970360"/>
                <a:ext cx="5056200" cy="1967040"/>
                <a:chOff x="19080" y="2970360"/>
                <a:chExt cx="5056200" cy="1967040"/>
              </a:xfrm>
            </p:grpSpPr>
            <p:pic>
              <p:nvPicPr>
                <p:cNvPr id="1569" name="图片 23559" descr="95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68360" y="3284640"/>
                  <a:ext cx="4105080" cy="145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0" name="文本框 23560"/>
                <p:cNvSpPr/>
                <p:nvPr/>
              </p:nvSpPr>
              <p:spPr>
                <a:xfrm>
                  <a:off x="755640" y="4605480"/>
                  <a:ext cx="86364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007</a:t>
                  </a:r>
                  <a:endPara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71" name="文本框 23561"/>
                <p:cNvSpPr/>
                <p:nvPr/>
              </p:nvSpPr>
              <p:spPr>
                <a:xfrm>
                  <a:off x="1457280" y="4614840"/>
                  <a:ext cx="86364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008</a:t>
                  </a:r>
                  <a:endPara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72" name="文本框 23562"/>
                <p:cNvSpPr/>
                <p:nvPr/>
              </p:nvSpPr>
              <p:spPr>
                <a:xfrm>
                  <a:off x="2147760" y="4611600"/>
                  <a:ext cx="86364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009</a:t>
                  </a:r>
                  <a:endPara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73" name="文本框 23563"/>
                <p:cNvSpPr/>
                <p:nvPr/>
              </p:nvSpPr>
              <p:spPr>
                <a:xfrm>
                  <a:off x="2844720" y="4614840"/>
                  <a:ext cx="86364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010</a:t>
                  </a:r>
                  <a:endPara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74" name="文本框 23564"/>
                <p:cNvSpPr/>
                <p:nvPr/>
              </p:nvSpPr>
              <p:spPr>
                <a:xfrm>
                  <a:off x="3535200" y="4619520"/>
                  <a:ext cx="86364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011</a:t>
                  </a:r>
                  <a:endPara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75" name="文本框 23565"/>
                <p:cNvSpPr/>
                <p:nvPr/>
              </p:nvSpPr>
              <p:spPr>
                <a:xfrm>
                  <a:off x="4211640" y="4624560"/>
                  <a:ext cx="86364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1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年份</a:t>
                  </a:r>
                  <a:endPara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76" name="文本框 23566"/>
                <p:cNvSpPr/>
                <p:nvPr/>
              </p:nvSpPr>
              <p:spPr>
                <a:xfrm>
                  <a:off x="19080" y="3059280"/>
                  <a:ext cx="158436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1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总量</a:t>
                  </a:r>
                  <a:r>
                    <a:rPr b="0" i="1" lang="en-US" sz="1200" spc="-1" strike="noStrike" u="sng">
                      <a:solidFill>
                        <a:srgbClr val="000000"/>
                      </a:solidFill>
                      <a:uFillTx/>
                      <a:latin typeface="楷体_GB2312"/>
                      <a:ea typeface="楷体_GB2312"/>
                    </a:rPr>
                    <a:t>／</a:t>
                  </a:r>
                  <a:r>
                    <a:rPr b="0" i="1" lang="zh-CN" sz="1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棵</a:t>
                  </a:r>
                  <a:endPara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77" name="文本框 23567"/>
                <p:cNvSpPr/>
                <p:nvPr/>
              </p:nvSpPr>
              <p:spPr>
                <a:xfrm>
                  <a:off x="262080" y="4486320"/>
                  <a:ext cx="42228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0</a:t>
                  </a:r>
                  <a:endPara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78" name="文本框 23568"/>
                <p:cNvSpPr/>
                <p:nvPr/>
              </p:nvSpPr>
              <p:spPr>
                <a:xfrm>
                  <a:off x="179280" y="4268880"/>
                  <a:ext cx="50508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0</a:t>
                  </a:r>
                  <a:endPara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79" name="文本框 23569"/>
                <p:cNvSpPr/>
                <p:nvPr/>
              </p:nvSpPr>
              <p:spPr>
                <a:xfrm>
                  <a:off x="95400" y="4033800"/>
                  <a:ext cx="87624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00</a:t>
                  </a:r>
                  <a:endPara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80" name="文本框 23570"/>
                <p:cNvSpPr/>
                <p:nvPr/>
              </p:nvSpPr>
              <p:spPr>
                <a:xfrm>
                  <a:off x="95400" y="3800520"/>
                  <a:ext cx="87624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50</a:t>
                  </a:r>
                  <a:endPara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81" name="文本框 23571"/>
                <p:cNvSpPr/>
                <p:nvPr/>
              </p:nvSpPr>
              <p:spPr>
                <a:xfrm>
                  <a:off x="104760" y="3357720"/>
                  <a:ext cx="87624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50</a:t>
                  </a:r>
                  <a:endPara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82" name="矩形 23572"/>
                <p:cNvSpPr/>
                <p:nvPr/>
              </p:nvSpPr>
              <p:spPr>
                <a:xfrm>
                  <a:off x="1295280" y="2970360"/>
                  <a:ext cx="1831680" cy="5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1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绿荫小学</a:t>
                  </a:r>
                  <a:r>
                    <a:rPr b="0" i="1" lang="en-US" sz="1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2007</a:t>
                  </a:r>
                  <a:r>
                    <a:rPr b="0" i="1" lang="zh-CN" sz="1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－</a:t>
                  </a:r>
                  <a:r>
                    <a:rPr b="0" i="1" lang="en-US" sz="1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2011</a:t>
                  </a:r>
                  <a:r>
                    <a:rPr b="0" i="1" lang="zh-CN" sz="1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年校园内</a:t>
                  </a:r>
                  <a:endPara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1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树木总量变化情况统计图</a:t>
                  </a:r>
                  <a:endPara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583" name="文本框 23573"/>
              <p:cNvSpPr/>
              <p:nvPr/>
            </p:nvSpPr>
            <p:spPr>
              <a:xfrm>
                <a:off x="108000" y="3573360"/>
                <a:ext cx="8762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00</a:t>
                </a:r>
                <a:endParaRPr b="0" i="1" lang="en-US" sz="12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84" name="Rectangle 5"/>
            <p:cNvSpPr/>
            <p:nvPr/>
          </p:nvSpPr>
          <p:spPr>
            <a:xfrm>
              <a:off x="865080" y="4221000"/>
              <a:ext cx="324000" cy="446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5" name="Rectangle 5"/>
            <p:cNvSpPr/>
            <p:nvPr/>
          </p:nvSpPr>
          <p:spPr>
            <a:xfrm>
              <a:off x="1557360" y="4140360"/>
              <a:ext cx="324000" cy="539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6" name="Rectangle 5"/>
            <p:cNvSpPr/>
            <p:nvPr/>
          </p:nvSpPr>
          <p:spPr>
            <a:xfrm>
              <a:off x="2249640" y="3990960"/>
              <a:ext cx="323640" cy="684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7" name="Rectangle 5"/>
            <p:cNvSpPr/>
            <p:nvPr/>
          </p:nvSpPr>
          <p:spPr>
            <a:xfrm>
              <a:off x="2959200" y="3881520"/>
              <a:ext cx="323640" cy="792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88" name="Rectangle 5"/>
            <p:cNvSpPr/>
            <p:nvPr/>
          </p:nvSpPr>
          <p:spPr>
            <a:xfrm>
              <a:off x="3643200" y="3760920"/>
              <a:ext cx="324000" cy="917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89" name="Text Box 6"/>
          <p:cNvSpPr/>
          <p:nvPr/>
        </p:nvSpPr>
        <p:spPr>
          <a:xfrm>
            <a:off x="789120" y="3933720"/>
            <a:ext cx="436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00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0" name="Text Box 12"/>
          <p:cNvSpPr/>
          <p:nvPr/>
        </p:nvSpPr>
        <p:spPr>
          <a:xfrm>
            <a:off x="1486080" y="3851280"/>
            <a:ext cx="436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20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1" name="Text Box 13"/>
          <p:cNvSpPr/>
          <p:nvPr/>
        </p:nvSpPr>
        <p:spPr>
          <a:xfrm>
            <a:off x="2185920" y="3706920"/>
            <a:ext cx="436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50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2" name="Text Box 14"/>
          <p:cNvSpPr/>
          <p:nvPr/>
        </p:nvSpPr>
        <p:spPr>
          <a:xfrm>
            <a:off x="2897280" y="3583080"/>
            <a:ext cx="436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70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3" name="Text Box 15"/>
          <p:cNvSpPr/>
          <p:nvPr/>
        </p:nvSpPr>
        <p:spPr>
          <a:xfrm>
            <a:off x="3573360" y="3481560"/>
            <a:ext cx="436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0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94" name="组合 23584"/>
          <p:cNvGrpSpPr/>
          <p:nvPr/>
        </p:nvGrpSpPr>
        <p:grpSpPr>
          <a:xfrm>
            <a:off x="395280" y="4724280"/>
            <a:ext cx="4681440" cy="1414440"/>
            <a:chOff x="395280" y="4724280"/>
            <a:chExt cx="4681440" cy="1414440"/>
          </a:xfrm>
        </p:grpSpPr>
        <p:pic>
          <p:nvPicPr>
            <p:cNvPr id="1595" name="Picture 20" descr="男天使副本"/>
            <p:cNvPicPr/>
            <p:nvPr/>
          </p:nvPicPr>
          <p:blipFill>
            <a:blip r:embed="rId3"/>
            <a:stretch/>
          </p:blipFill>
          <p:spPr>
            <a:xfrm>
              <a:off x="395280" y="472428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6" name="AutoShape 27"/>
            <p:cNvSpPr/>
            <p:nvPr/>
          </p:nvSpPr>
          <p:spPr>
            <a:xfrm>
              <a:off x="2050920" y="5157720"/>
              <a:ext cx="3025800" cy="863640"/>
            </a:xfrm>
            <a:prstGeom prst="wedgeRoundRectCallout">
              <a:avLst>
                <a:gd name="adj1" fmla="val -55930"/>
                <a:gd name="adj2" fmla="val 2095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你选择了哪种统计图？为什么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9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98" name="图片 23588" descr="95"/>
          <p:cNvPicPr/>
          <p:nvPr/>
        </p:nvPicPr>
        <p:blipFill>
          <a:blip r:embed="rId4"/>
          <a:stretch/>
        </p:blipFill>
        <p:spPr>
          <a:xfrm>
            <a:off x="4791240" y="3294000"/>
            <a:ext cx="4173480" cy="1405080"/>
          </a:xfrm>
          <a:prstGeom prst="rect">
            <a:avLst/>
          </a:prstGeom>
          <a:ln w="0">
            <a:noFill/>
          </a:ln>
        </p:spPr>
      </p:pic>
      <p:sp>
        <p:nvSpPr>
          <p:cNvPr id="1599" name="文本框 23589"/>
          <p:cNvSpPr/>
          <p:nvPr/>
        </p:nvSpPr>
        <p:spPr>
          <a:xfrm>
            <a:off x="4987800" y="4619520"/>
            <a:ext cx="808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07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0" name="文本框 23590"/>
          <p:cNvSpPr/>
          <p:nvPr/>
        </p:nvSpPr>
        <p:spPr>
          <a:xfrm>
            <a:off x="5673600" y="4622760"/>
            <a:ext cx="627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08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1" name="文本框 23591"/>
          <p:cNvSpPr/>
          <p:nvPr/>
        </p:nvSpPr>
        <p:spPr>
          <a:xfrm>
            <a:off x="6388200" y="4622760"/>
            <a:ext cx="631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09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2" name="文本框 23592"/>
          <p:cNvSpPr/>
          <p:nvPr/>
        </p:nvSpPr>
        <p:spPr>
          <a:xfrm>
            <a:off x="7101000" y="4624560"/>
            <a:ext cx="566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10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3" name="文本框 23593"/>
          <p:cNvSpPr/>
          <p:nvPr/>
        </p:nvSpPr>
        <p:spPr>
          <a:xfrm>
            <a:off x="7794720" y="4618080"/>
            <a:ext cx="809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11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4" name="文本框 23594"/>
          <p:cNvSpPr/>
          <p:nvPr/>
        </p:nvSpPr>
        <p:spPr>
          <a:xfrm>
            <a:off x="8723160" y="4618080"/>
            <a:ext cx="490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年份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5" name="文本框 23595"/>
          <p:cNvSpPr/>
          <p:nvPr/>
        </p:nvSpPr>
        <p:spPr>
          <a:xfrm>
            <a:off x="4614840" y="4497480"/>
            <a:ext cx="492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0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6" name="文本框 23596"/>
          <p:cNvSpPr/>
          <p:nvPr/>
        </p:nvSpPr>
        <p:spPr>
          <a:xfrm>
            <a:off x="4529160" y="4259160"/>
            <a:ext cx="528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50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7" name="文本框 23597"/>
          <p:cNvSpPr/>
          <p:nvPr/>
        </p:nvSpPr>
        <p:spPr>
          <a:xfrm>
            <a:off x="4444920" y="4030560"/>
            <a:ext cx="498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00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8" name="文本框 23598"/>
          <p:cNvSpPr/>
          <p:nvPr/>
        </p:nvSpPr>
        <p:spPr>
          <a:xfrm>
            <a:off x="4443480" y="3809880"/>
            <a:ext cx="500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50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9" name="文本框 23599"/>
          <p:cNvSpPr/>
          <p:nvPr/>
        </p:nvSpPr>
        <p:spPr>
          <a:xfrm>
            <a:off x="4444920" y="3584520"/>
            <a:ext cx="498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0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0" name="文本框 23600"/>
          <p:cNvSpPr/>
          <p:nvPr/>
        </p:nvSpPr>
        <p:spPr>
          <a:xfrm>
            <a:off x="4444920" y="3352680"/>
            <a:ext cx="496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50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1" name="文本框 23601"/>
          <p:cNvSpPr/>
          <p:nvPr/>
        </p:nvSpPr>
        <p:spPr>
          <a:xfrm>
            <a:off x="4484520" y="3036960"/>
            <a:ext cx="898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总量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／</a:t>
            </a:r>
            <a:r>
              <a:rPr b="0" i="1" lang="zh-CN" sz="1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棵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2" name="Text Box 6"/>
          <p:cNvSpPr/>
          <p:nvPr/>
        </p:nvSpPr>
        <p:spPr>
          <a:xfrm>
            <a:off x="4997520" y="3924360"/>
            <a:ext cx="436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00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3" name="Text Box 12"/>
          <p:cNvSpPr/>
          <p:nvPr/>
        </p:nvSpPr>
        <p:spPr>
          <a:xfrm>
            <a:off x="5697360" y="3857760"/>
            <a:ext cx="436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20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4" name="Text Box 13"/>
          <p:cNvSpPr/>
          <p:nvPr/>
        </p:nvSpPr>
        <p:spPr>
          <a:xfrm>
            <a:off x="6389640" y="3693960"/>
            <a:ext cx="436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50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5" name="Text Box 14"/>
          <p:cNvSpPr/>
          <p:nvPr/>
        </p:nvSpPr>
        <p:spPr>
          <a:xfrm>
            <a:off x="7093080" y="3613320"/>
            <a:ext cx="436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70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6" name="Text Box 15"/>
          <p:cNvSpPr/>
          <p:nvPr/>
        </p:nvSpPr>
        <p:spPr>
          <a:xfrm>
            <a:off x="7835760" y="3500280"/>
            <a:ext cx="436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0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7" name="Line 17"/>
          <p:cNvSpPr/>
          <p:nvPr/>
        </p:nvSpPr>
        <p:spPr>
          <a:xfrm flipV="1">
            <a:off x="5176800" y="4124160"/>
            <a:ext cx="744480" cy="619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8" name="矩形 23608"/>
          <p:cNvSpPr/>
          <p:nvPr/>
        </p:nvSpPr>
        <p:spPr>
          <a:xfrm>
            <a:off x="5651640" y="2967120"/>
            <a:ext cx="18316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荫小学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07</a:t>
            </a:r>
            <a:r>
              <a:rPr b="0" i="1" lang="zh-CN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－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11</a:t>
            </a:r>
            <a:r>
              <a:rPr b="0" i="1" lang="zh-CN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年校园内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树木总量变化情况统计图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9" name="Line 19"/>
          <p:cNvSpPr/>
          <p:nvPr/>
        </p:nvSpPr>
        <p:spPr>
          <a:xfrm flipV="1">
            <a:off x="6581880" y="3890880"/>
            <a:ext cx="726840" cy="828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0" name="Line 20"/>
          <p:cNvSpPr/>
          <p:nvPr/>
        </p:nvSpPr>
        <p:spPr>
          <a:xfrm flipV="1">
            <a:off x="7284960" y="3749760"/>
            <a:ext cx="736560" cy="1411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1" name="Oval 9"/>
          <p:cNvSpPr/>
          <p:nvPr/>
        </p:nvSpPr>
        <p:spPr>
          <a:xfrm>
            <a:off x="7284960" y="3868560"/>
            <a:ext cx="41400" cy="38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2" name="Line 18"/>
          <p:cNvSpPr/>
          <p:nvPr/>
        </p:nvSpPr>
        <p:spPr>
          <a:xfrm flipV="1">
            <a:off x="5921280" y="3968640"/>
            <a:ext cx="692280" cy="1555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3" name="Oval 7"/>
          <p:cNvSpPr/>
          <p:nvPr/>
        </p:nvSpPr>
        <p:spPr>
          <a:xfrm>
            <a:off x="5865840" y="4105440"/>
            <a:ext cx="41400" cy="37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4" name="Oval 5"/>
          <p:cNvSpPr/>
          <p:nvPr/>
        </p:nvSpPr>
        <p:spPr>
          <a:xfrm>
            <a:off x="5156280" y="4167360"/>
            <a:ext cx="41040" cy="37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5" name="Oval 10"/>
          <p:cNvSpPr/>
          <p:nvPr/>
        </p:nvSpPr>
        <p:spPr>
          <a:xfrm>
            <a:off x="7994520" y="3728880"/>
            <a:ext cx="41400" cy="38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6" name="Oval 8"/>
          <p:cNvSpPr/>
          <p:nvPr/>
        </p:nvSpPr>
        <p:spPr>
          <a:xfrm>
            <a:off x="6578640" y="3957480"/>
            <a:ext cx="41400" cy="38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矩形 24577"/>
          <p:cNvSpPr/>
          <p:nvPr/>
        </p:nvSpPr>
        <p:spPr>
          <a:xfrm>
            <a:off x="3156120" y="1465200"/>
            <a:ext cx="16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01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年绿荫小学校园内各种树木所占百分比情况统计表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28" name="图片 24578" descr="93"/>
          <p:cNvPicPr/>
          <p:nvPr/>
        </p:nvPicPr>
        <p:blipFill>
          <a:blip r:embed="rId1"/>
          <a:stretch/>
        </p:blipFill>
        <p:spPr>
          <a:xfrm>
            <a:off x="900000" y="1916280"/>
            <a:ext cx="608976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629" name="组合 24579"/>
          <p:cNvGrpSpPr/>
          <p:nvPr/>
        </p:nvGrpSpPr>
        <p:grpSpPr>
          <a:xfrm>
            <a:off x="871560" y="2924280"/>
            <a:ext cx="3124080" cy="2601720"/>
            <a:chOff x="871560" y="2924280"/>
            <a:chExt cx="3124080" cy="2601720"/>
          </a:xfrm>
        </p:grpSpPr>
        <p:sp>
          <p:nvSpPr>
            <p:cNvPr id="1630" name="矩形 24580"/>
            <p:cNvSpPr/>
            <p:nvPr/>
          </p:nvSpPr>
          <p:spPr>
            <a:xfrm>
              <a:off x="1879920" y="2924280"/>
              <a:ext cx="11865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绿荫小学校园内各种树木</a:t>
              </a:r>
              <a:endParaRPr b="0" i="1" lang="en-US" sz="12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所占百分比情况统计图</a:t>
              </a:r>
              <a:endParaRPr b="0" i="1" lang="en-US" sz="1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31" name="组合 24581"/>
            <p:cNvGrpSpPr/>
            <p:nvPr/>
          </p:nvGrpSpPr>
          <p:grpSpPr>
            <a:xfrm>
              <a:off x="871560" y="3160800"/>
              <a:ext cx="3124080" cy="2365200"/>
              <a:chOff x="871560" y="3160800"/>
              <a:chExt cx="3124080" cy="2365200"/>
            </a:xfrm>
          </p:grpSpPr>
          <p:pic>
            <p:nvPicPr>
              <p:cNvPr id="1632" name="图片 24582" descr="96"/>
              <p:cNvPicPr/>
              <p:nvPr/>
            </p:nvPicPr>
            <p:blipFill>
              <a:blip r:embed="rId2"/>
              <a:stretch/>
            </p:blipFill>
            <p:spPr>
              <a:xfrm>
                <a:off x="871560" y="3367080"/>
                <a:ext cx="3124080" cy="21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3" name="文本框 24583"/>
              <p:cNvSpPr/>
              <p:nvPr/>
            </p:nvSpPr>
            <p:spPr>
              <a:xfrm>
                <a:off x="1015920" y="3160800"/>
                <a:ext cx="7916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200" spc="-1" strike="noStrike" u="sng">
                    <a:solidFill>
                      <a:srgbClr val="0066cc"/>
                    </a:solidFill>
                    <a:uFillTx/>
                    <a:latin typeface="楷体_GB2312"/>
                    <a:ea typeface="楷体_GB2312"/>
                  </a:rPr>
                  <a:t>百分比</a:t>
                </a:r>
                <a:endParaRPr b="0" i="1" lang="en-US" sz="12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634" name="组合 24584"/>
          <p:cNvGrpSpPr/>
          <p:nvPr/>
        </p:nvGrpSpPr>
        <p:grpSpPr>
          <a:xfrm>
            <a:off x="5108400" y="2886120"/>
            <a:ext cx="4756320" cy="2663640"/>
            <a:chOff x="5108400" y="2886120"/>
            <a:chExt cx="4756320" cy="2663640"/>
          </a:xfrm>
        </p:grpSpPr>
        <p:pic>
          <p:nvPicPr>
            <p:cNvPr id="1635" name="图片 24585" descr="98"/>
            <p:cNvPicPr/>
            <p:nvPr/>
          </p:nvPicPr>
          <p:blipFill>
            <a:blip r:embed="rId3"/>
            <a:stretch/>
          </p:blipFill>
          <p:spPr>
            <a:xfrm>
              <a:off x="5108400" y="3390840"/>
              <a:ext cx="215928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6" name="矩形 24586"/>
            <p:cNvSpPr/>
            <p:nvPr/>
          </p:nvSpPr>
          <p:spPr>
            <a:xfrm>
              <a:off x="5292720" y="2886120"/>
              <a:ext cx="45720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绿荫小学校园内各种树木</a:t>
              </a:r>
              <a:endParaRPr b="0" i="1" lang="en-US" sz="12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所占百分比情况统计图</a:t>
              </a:r>
              <a:endParaRPr b="0" i="1" lang="en-US" sz="1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37" name="AutoShape 27"/>
          <p:cNvSpPr/>
          <p:nvPr/>
        </p:nvSpPr>
        <p:spPr>
          <a:xfrm>
            <a:off x="1366920" y="5661000"/>
            <a:ext cx="3565440" cy="1079640"/>
          </a:xfrm>
          <a:prstGeom prst="wedgeRoundRectCallout">
            <a:avLst>
              <a:gd name="adj1" fmla="val -53518"/>
              <a:gd name="adj2" fmla="val -3293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这题给出了各种树木占树木总量的百分比，用条形统计图和扇形统计图都可以表示出这些信息。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38" name="图片 24588" descr="49"/>
          <p:cNvPicPr/>
          <p:nvPr/>
        </p:nvPicPr>
        <p:blipFill>
          <a:blip r:embed="rId4"/>
          <a:stretch/>
        </p:blipFill>
        <p:spPr>
          <a:xfrm>
            <a:off x="0" y="4869000"/>
            <a:ext cx="1428840" cy="1798560"/>
          </a:xfrm>
          <a:prstGeom prst="rect">
            <a:avLst/>
          </a:prstGeom>
          <a:ln w="0">
            <a:noFill/>
          </a:ln>
        </p:spPr>
      </p:pic>
      <p:sp>
        <p:nvSpPr>
          <p:cNvPr id="1639" name="AutoShape 27"/>
          <p:cNvSpPr/>
          <p:nvPr/>
        </p:nvSpPr>
        <p:spPr>
          <a:xfrm flipH="1">
            <a:off x="4993560" y="5472000"/>
            <a:ext cx="3095640" cy="792360"/>
          </a:xfrm>
          <a:prstGeom prst="wedgeRoundRectCallout">
            <a:avLst>
              <a:gd name="adj1" fmla="val -53592"/>
              <a:gd name="adj2" fmla="val -651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但用扇形统计图更能直观地看出部分与整体之间的关系。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40" name="图片 24590" descr="67"/>
          <p:cNvPicPr/>
          <p:nvPr/>
        </p:nvPicPr>
        <p:blipFill>
          <a:blip r:embed="rId5"/>
          <a:stretch/>
        </p:blipFill>
        <p:spPr>
          <a:xfrm>
            <a:off x="8089920" y="5084640"/>
            <a:ext cx="1122480" cy="1800360"/>
          </a:xfrm>
          <a:prstGeom prst="rect">
            <a:avLst/>
          </a:prstGeom>
          <a:ln w="0">
            <a:noFill/>
          </a:ln>
        </p:spPr>
      </p:pic>
      <p:sp>
        <p:nvSpPr>
          <p:cNvPr id="164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矩形 25601"/>
          <p:cNvSpPr/>
          <p:nvPr/>
        </p:nvSpPr>
        <p:spPr>
          <a:xfrm>
            <a:off x="2401920" y="1370160"/>
            <a:ext cx="16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1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年绿荫小学校园内各种树木数量统计表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43" name="图片 25602" descr="94"/>
          <p:cNvPicPr/>
          <p:nvPr/>
        </p:nvPicPr>
        <p:blipFill>
          <a:blip r:embed="rId1"/>
          <a:stretch/>
        </p:blipFill>
        <p:spPr>
          <a:xfrm>
            <a:off x="838080" y="1773360"/>
            <a:ext cx="62722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644" name="组合 25603"/>
          <p:cNvGrpSpPr/>
          <p:nvPr/>
        </p:nvGrpSpPr>
        <p:grpSpPr>
          <a:xfrm>
            <a:off x="108000" y="3043080"/>
            <a:ext cx="5508720" cy="3628080"/>
            <a:chOff x="108000" y="3043080"/>
            <a:chExt cx="5508720" cy="3628080"/>
          </a:xfrm>
        </p:grpSpPr>
        <p:grpSp>
          <p:nvGrpSpPr>
            <p:cNvPr id="1645" name="组合 25604"/>
            <p:cNvGrpSpPr/>
            <p:nvPr/>
          </p:nvGrpSpPr>
          <p:grpSpPr>
            <a:xfrm>
              <a:off x="108000" y="3043080"/>
              <a:ext cx="5508720" cy="3628080"/>
              <a:chOff x="108000" y="3043080"/>
              <a:chExt cx="5508720" cy="3628080"/>
            </a:xfrm>
          </p:grpSpPr>
          <p:grpSp>
            <p:nvGrpSpPr>
              <p:cNvPr id="1646" name="组合 25605"/>
              <p:cNvGrpSpPr/>
              <p:nvPr/>
            </p:nvGrpSpPr>
            <p:grpSpPr>
              <a:xfrm>
                <a:off x="108000" y="3043080"/>
                <a:ext cx="5508720" cy="3628080"/>
                <a:chOff x="108000" y="3043080"/>
                <a:chExt cx="5508720" cy="3628080"/>
              </a:xfrm>
            </p:grpSpPr>
            <p:pic>
              <p:nvPicPr>
                <p:cNvPr id="1647" name="图片 25606" descr="98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08000" y="3043080"/>
                  <a:ext cx="4425840" cy="323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8" name="矩形 25607"/>
                <p:cNvSpPr/>
                <p:nvPr/>
              </p:nvSpPr>
              <p:spPr>
                <a:xfrm>
                  <a:off x="1044720" y="6211440"/>
                  <a:ext cx="4572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66cc"/>
                      </a:solidFill>
                      <a:uFillTx/>
                      <a:latin typeface="楷体_GB2312"/>
                      <a:ea typeface="楷体_GB2312"/>
                    </a:rPr>
                    <a:t>杨树 柳树 松树 槐树 其他  树种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649" name="直接连接符 25608"/>
              <p:cNvSpPr/>
              <p:nvPr/>
            </p:nvSpPr>
            <p:spPr>
              <a:xfrm>
                <a:off x="963720" y="6283080"/>
                <a:ext cx="3600360" cy="0"/>
              </a:xfrm>
              <a:prstGeom prst="line">
                <a:avLst/>
              </a:prstGeom>
              <a:ln w="12600">
                <a:solidFill>
                  <a:srgbClr val="0066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50" name="矩形 25609"/>
            <p:cNvSpPr/>
            <p:nvPr/>
          </p:nvSpPr>
          <p:spPr>
            <a:xfrm>
              <a:off x="1869120" y="3068640"/>
              <a:ext cx="155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66cc"/>
                  </a:solidFill>
                  <a:uFillTx/>
                  <a:latin typeface="宋体"/>
                  <a:ea typeface="宋体"/>
                </a:rPr>
                <a:t>绿荫小学校园内各种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66cc"/>
                  </a:solidFill>
                  <a:uFillTx/>
                  <a:latin typeface="宋体"/>
                  <a:ea typeface="宋体"/>
                </a:rPr>
                <a:t>树木数量统计图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51" name="组合 25610"/>
          <p:cNvGrpSpPr/>
          <p:nvPr/>
        </p:nvGrpSpPr>
        <p:grpSpPr>
          <a:xfrm>
            <a:off x="4956120" y="2565360"/>
            <a:ext cx="4187520" cy="1414440"/>
            <a:chOff x="4956120" y="2565360"/>
            <a:chExt cx="4187520" cy="1414440"/>
          </a:xfrm>
        </p:grpSpPr>
        <p:pic>
          <p:nvPicPr>
            <p:cNvPr id="1652" name="Picture 15" descr="男天使"/>
            <p:cNvPicPr/>
            <p:nvPr/>
          </p:nvPicPr>
          <p:blipFill>
            <a:blip r:embed="rId3"/>
            <a:stretch/>
          </p:blipFill>
          <p:spPr>
            <a:xfrm>
              <a:off x="7619760" y="256536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3" name="AutoShape 27"/>
            <p:cNvSpPr/>
            <p:nvPr/>
          </p:nvSpPr>
          <p:spPr>
            <a:xfrm>
              <a:off x="4956120" y="2997360"/>
              <a:ext cx="2519280" cy="936360"/>
            </a:xfrm>
            <a:prstGeom prst="wedgeRoundRectCallout">
              <a:avLst>
                <a:gd name="adj1" fmla="val 58129"/>
                <a:gd name="adj2" fmla="val 2254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为什么不能用其他的统计图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54" name="组合 25613"/>
          <p:cNvGrpSpPr/>
          <p:nvPr/>
        </p:nvGrpSpPr>
        <p:grpSpPr>
          <a:xfrm>
            <a:off x="4906800" y="4653000"/>
            <a:ext cx="4237200" cy="1798560"/>
            <a:chOff x="4906800" y="4653000"/>
            <a:chExt cx="4237200" cy="1798560"/>
          </a:xfrm>
        </p:grpSpPr>
        <p:sp>
          <p:nvSpPr>
            <p:cNvPr id="1655" name="AutoShape 27"/>
            <p:cNvSpPr/>
            <p:nvPr/>
          </p:nvSpPr>
          <p:spPr>
            <a:xfrm>
              <a:off x="4906800" y="4653000"/>
              <a:ext cx="2808360" cy="1297080"/>
            </a:xfrm>
            <a:prstGeom prst="wedgeRoundRectCallout">
              <a:avLst>
                <a:gd name="adj1" fmla="val 60231"/>
                <a:gd name="adj2" fmla="val -1083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这题给出了各种树木的数量，只能用条形统计图来表示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656" name="图片 25615" descr="49"/>
            <p:cNvPicPr/>
            <p:nvPr/>
          </p:nvPicPr>
          <p:blipFill>
            <a:blip r:embed="rId4"/>
            <a:stretch/>
          </p:blipFill>
          <p:spPr>
            <a:xfrm>
              <a:off x="7715160" y="4653000"/>
              <a:ext cx="1428840" cy="17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TextBox 3"/>
          <p:cNvSpPr/>
          <p:nvPr/>
        </p:nvSpPr>
        <p:spPr>
          <a:xfrm>
            <a:off x="385920" y="1344600"/>
            <a:ext cx="8204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.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在林业科学里，通常根据乔木生长期的长短将乔木分成不同的类型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下面是我国乔木林各龄组的面积构成情况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以上信息可以用什么统计图描述？哪种更直观些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9" name="TextBox 3"/>
          <p:cNvSpPr/>
          <p:nvPr/>
        </p:nvSpPr>
        <p:spPr>
          <a:xfrm>
            <a:off x="318960" y="6064200"/>
            <a:ext cx="785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答：这题可以用条形统计图和扇形统计图表示出这些信息，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    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但用扇形统计图更能直观地看出它们之间的关系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60" name="图片 26627" descr="99"/>
          <p:cNvPicPr/>
          <p:nvPr/>
        </p:nvPicPr>
        <p:blipFill>
          <a:blip r:embed="rId1"/>
          <a:stretch/>
        </p:blipFill>
        <p:spPr>
          <a:xfrm>
            <a:off x="781200" y="2122560"/>
            <a:ext cx="805500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661" name="组合 26628"/>
          <p:cNvGrpSpPr/>
          <p:nvPr/>
        </p:nvGrpSpPr>
        <p:grpSpPr>
          <a:xfrm>
            <a:off x="-88920" y="3533760"/>
            <a:ext cx="4992480" cy="1798560"/>
            <a:chOff x="-88920" y="3533760"/>
            <a:chExt cx="4992480" cy="1798560"/>
          </a:xfrm>
        </p:grpSpPr>
        <p:sp>
          <p:nvSpPr>
            <p:cNvPr id="1662" name="AutoShape 27"/>
            <p:cNvSpPr/>
            <p:nvPr/>
          </p:nvSpPr>
          <p:spPr>
            <a:xfrm>
              <a:off x="1303200" y="3605040"/>
              <a:ext cx="3600360" cy="576360"/>
            </a:xfrm>
            <a:prstGeom prst="wedgeRoundRectCallout">
              <a:avLst>
                <a:gd name="adj1" fmla="val -57893"/>
                <a:gd name="adj2" fmla="val 3815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我是用条形统计图描述的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663" name="图片 26630" descr="49"/>
            <p:cNvPicPr/>
            <p:nvPr/>
          </p:nvPicPr>
          <p:blipFill>
            <a:blip r:embed="rId2"/>
            <a:stretch/>
          </p:blipFill>
          <p:spPr>
            <a:xfrm flipH="1">
              <a:off x="-88920" y="3533760"/>
              <a:ext cx="1428480" cy="179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4" name="组合 26631"/>
          <p:cNvGrpSpPr/>
          <p:nvPr/>
        </p:nvGrpSpPr>
        <p:grpSpPr>
          <a:xfrm>
            <a:off x="1162800" y="4216320"/>
            <a:ext cx="3944160" cy="1970280"/>
            <a:chOff x="1162800" y="4216320"/>
            <a:chExt cx="3944160" cy="1970280"/>
          </a:xfrm>
        </p:grpSpPr>
        <p:grpSp>
          <p:nvGrpSpPr>
            <p:cNvPr id="1665" name="组合 26632"/>
            <p:cNvGrpSpPr/>
            <p:nvPr/>
          </p:nvGrpSpPr>
          <p:grpSpPr>
            <a:xfrm>
              <a:off x="1162800" y="4216320"/>
              <a:ext cx="3944160" cy="1882800"/>
              <a:chOff x="1162800" y="4216320"/>
              <a:chExt cx="3944160" cy="1882800"/>
            </a:xfrm>
          </p:grpSpPr>
          <p:grpSp>
            <p:nvGrpSpPr>
              <p:cNvPr id="1666" name="组合 26633"/>
              <p:cNvGrpSpPr/>
              <p:nvPr/>
            </p:nvGrpSpPr>
            <p:grpSpPr>
              <a:xfrm>
                <a:off x="1755720" y="4327200"/>
                <a:ext cx="3351240" cy="1652760"/>
                <a:chOff x="1755720" y="4327200"/>
                <a:chExt cx="3351240" cy="1652760"/>
              </a:xfrm>
            </p:grpSpPr>
            <p:pic>
              <p:nvPicPr>
                <p:cNvPr id="1667" name="图片 26634" descr="100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755720" y="4360680"/>
                  <a:ext cx="3062520" cy="161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8" name="文本框 26635"/>
                <p:cNvSpPr/>
                <p:nvPr/>
              </p:nvSpPr>
              <p:spPr>
                <a:xfrm>
                  <a:off x="1822320" y="4360680"/>
                  <a:ext cx="86364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3.82%</a:t>
                  </a:r>
                  <a:endPara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9" name="文本框 26636"/>
                <p:cNvSpPr/>
                <p:nvPr/>
              </p:nvSpPr>
              <p:spPr>
                <a:xfrm>
                  <a:off x="2403360" y="4389480"/>
                  <a:ext cx="86364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3.43%</a:t>
                  </a:r>
                  <a:endPara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0" name="文本框 26637"/>
                <p:cNvSpPr/>
                <p:nvPr/>
              </p:nvSpPr>
              <p:spPr>
                <a:xfrm>
                  <a:off x="2979720" y="5081400"/>
                  <a:ext cx="86364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4.82%</a:t>
                  </a:r>
                  <a:endPara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1" name="文本框 26638"/>
                <p:cNvSpPr/>
                <p:nvPr/>
              </p:nvSpPr>
              <p:spPr>
                <a:xfrm>
                  <a:off x="3571920" y="5202000"/>
                  <a:ext cx="86364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2.03%</a:t>
                  </a:r>
                  <a:endPara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2" name="文本框 26639"/>
                <p:cNvSpPr/>
                <p:nvPr/>
              </p:nvSpPr>
              <p:spPr>
                <a:xfrm>
                  <a:off x="4243320" y="5437080"/>
                  <a:ext cx="86364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.9%</a:t>
                  </a:r>
                  <a:endPara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3" name="直接连接符 26640"/>
                <p:cNvSpPr/>
                <p:nvPr/>
              </p:nvSpPr>
              <p:spPr>
                <a:xfrm>
                  <a:off x="1827360" y="5945040"/>
                  <a:ext cx="302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4" name="直接连接符 26641"/>
                <p:cNvSpPr/>
                <p:nvPr/>
              </p:nvSpPr>
              <p:spPr>
                <a:xfrm flipV="1">
                  <a:off x="1817640" y="4327200"/>
                  <a:ext cx="0" cy="161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675" name="矩形 26642"/>
              <p:cNvSpPr/>
              <p:nvPr/>
            </p:nvSpPr>
            <p:spPr>
              <a:xfrm>
                <a:off x="1269720" y="5786280"/>
                <a:ext cx="6152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0.00%</a:t>
                </a:r>
                <a:endParaRPr b="0" i="1" lang="en-US" sz="12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6" name="矩形 26643"/>
              <p:cNvSpPr/>
              <p:nvPr/>
            </p:nvSpPr>
            <p:spPr>
              <a:xfrm>
                <a:off x="1269720" y="5584680"/>
                <a:ext cx="6152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.00%</a:t>
                </a:r>
                <a:endParaRPr b="0" i="1" lang="en-US" sz="12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7" name="矩形 26644"/>
              <p:cNvSpPr/>
              <p:nvPr/>
            </p:nvSpPr>
            <p:spPr>
              <a:xfrm>
                <a:off x="1188000" y="5368680"/>
                <a:ext cx="700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0.00%</a:t>
                </a:r>
                <a:endParaRPr b="0" i="1" lang="en-US" sz="12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8" name="矩形 26645"/>
              <p:cNvSpPr/>
              <p:nvPr/>
            </p:nvSpPr>
            <p:spPr>
              <a:xfrm>
                <a:off x="1188000" y="5195880"/>
                <a:ext cx="700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.00%</a:t>
                </a:r>
                <a:endParaRPr b="0" i="1" lang="en-US" sz="12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9" name="矩形 26646"/>
              <p:cNvSpPr/>
              <p:nvPr/>
            </p:nvSpPr>
            <p:spPr>
              <a:xfrm>
                <a:off x="1178640" y="5008320"/>
                <a:ext cx="700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0.00%</a:t>
                </a:r>
                <a:endParaRPr b="0" i="1" lang="en-US" sz="12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0" name="矩形 26647"/>
              <p:cNvSpPr/>
              <p:nvPr/>
            </p:nvSpPr>
            <p:spPr>
              <a:xfrm>
                <a:off x="1168920" y="4811760"/>
                <a:ext cx="700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5.00%</a:t>
                </a:r>
                <a:endParaRPr b="0" i="1" lang="en-US" sz="12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1" name="矩形 26648"/>
              <p:cNvSpPr/>
              <p:nvPr/>
            </p:nvSpPr>
            <p:spPr>
              <a:xfrm>
                <a:off x="1162800" y="4614840"/>
                <a:ext cx="700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0.00%</a:t>
                </a:r>
                <a:endParaRPr b="0" i="1" lang="en-US" sz="12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2" name="矩形 26649"/>
              <p:cNvSpPr/>
              <p:nvPr/>
            </p:nvSpPr>
            <p:spPr>
              <a:xfrm>
                <a:off x="1173960" y="4417920"/>
                <a:ext cx="700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5.00%</a:t>
                </a:r>
                <a:endParaRPr b="0" i="1" lang="en-US" sz="12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3" name="矩形 26650"/>
              <p:cNvSpPr/>
              <p:nvPr/>
            </p:nvSpPr>
            <p:spPr>
              <a:xfrm>
                <a:off x="1178640" y="4216320"/>
                <a:ext cx="700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0.00%</a:t>
                </a:r>
                <a:endParaRPr b="0" i="1" lang="en-US" sz="12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84" name="矩形 26651"/>
            <p:cNvSpPr/>
            <p:nvPr/>
          </p:nvSpPr>
          <p:spPr>
            <a:xfrm>
              <a:off x="2221560" y="5873760"/>
              <a:ext cx="21924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幼龄林 中龄林  近熟林  成熟林  过熟林</a:t>
              </a:r>
              <a:endParaRPr b="0" i="1" lang="en-US" sz="1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85" name="AutoShape 27"/>
          <p:cNvSpPr/>
          <p:nvPr/>
        </p:nvSpPr>
        <p:spPr>
          <a:xfrm flipH="1">
            <a:off x="6298560" y="3213000"/>
            <a:ext cx="2160360" cy="936720"/>
          </a:xfrm>
          <a:prstGeom prst="wedgeRoundRectCallout">
            <a:avLst>
              <a:gd name="adj1" fmla="val -31782"/>
              <a:gd name="adj2" fmla="val 7694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我是用扇形统计图描述的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86" name="图片 26653" descr="67"/>
          <p:cNvPicPr/>
          <p:nvPr/>
        </p:nvPicPr>
        <p:blipFill>
          <a:blip r:embed="rId4"/>
          <a:stretch/>
        </p:blipFill>
        <p:spPr>
          <a:xfrm>
            <a:off x="8021520" y="4076640"/>
            <a:ext cx="1122480" cy="1800360"/>
          </a:xfrm>
          <a:prstGeom prst="rect">
            <a:avLst/>
          </a:prstGeom>
          <a:ln w="0">
            <a:noFill/>
          </a:ln>
        </p:spPr>
      </p:pic>
      <p:grpSp>
        <p:nvGrpSpPr>
          <p:cNvPr id="1687" name="组合 26654"/>
          <p:cNvGrpSpPr/>
          <p:nvPr/>
        </p:nvGrpSpPr>
        <p:grpSpPr>
          <a:xfrm>
            <a:off x="5137200" y="4149720"/>
            <a:ext cx="2062080" cy="1979640"/>
            <a:chOff x="5137200" y="4149720"/>
            <a:chExt cx="2062080" cy="1979640"/>
          </a:xfrm>
        </p:grpSpPr>
        <p:pic>
          <p:nvPicPr>
            <p:cNvPr id="1688" name="图片 26655" descr="101"/>
            <p:cNvPicPr/>
            <p:nvPr/>
          </p:nvPicPr>
          <p:blipFill>
            <a:blip r:embed="rId5"/>
            <a:stretch/>
          </p:blipFill>
          <p:spPr>
            <a:xfrm>
              <a:off x="5137200" y="4149720"/>
              <a:ext cx="2062080" cy="19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9" name="矩形 26656"/>
            <p:cNvSpPr/>
            <p:nvPr/>
          </p:nvSpPr>
          <p:spPr>
            <a:xfrm>
              <a:off x="6361200" y="4653000"/>
              <a:ext cx="698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幼龄林</a:t>
              </a:r>
              <a:endParaRPr b="0" i="1" lang="en-US" sz="1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3.82%</a:t>
              </a:r>
              <a:endParaRPr b="0" i="1" lang="en-US" sz="1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90" name="矩形 26657"/>
            <p:cNvSpPr/>
            <p:nvPr/>
          </p:nvSpPr>
          <p:spPr>
            <a:xfrm>
              <a:off x="5784840" y="5445360"/>
              <a:ext cx="698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中龄林</a:t>
              </a:r>
              <a:endParaRPr b="0" i="1" lang="en-US" sz="1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3.43%</a:t>
              </a:r>
              <a:endParaRPr b="0" i="1" lang="en-US" sz="1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91" name="矩形 26658"/>
            <p:cNvSpPr/>
            <p:nvPr/>
          </p:nvSpPr>
          <p:spPr>
            <a:xfrm>
              <a:off x="5191200" y="4878720"/>
              <a:ext cx="698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近龄林</a:t>
              </a:r>
              <a:endParaRPr b="0" i="1" lang="en-US" sz="1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4.82%</a:t>
              </a:r>
              <a:endParaRPr b="0" i="1" lang="en-US" sz="1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92" name="矩形 26659"/>
            <p:cNvSpPr/>
            <p:nvPr/>
          </p:nvSpPr>
          <p:spPr>
            <a:xfrm>
              <a:off x="5324400" y="4403880"/>
              <a:ext cx="698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成龄林</a:t>
              </a:r>
              <a:endParaRPr b="0" i="1" lang="en-US" sz="1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.03%</a:t>
              </a:r>
              <a:endParaRPr b="0" i="1" lang="en-US" sz="1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93" name="矩形 26660"/>
            <p:cNvSpPr/>
            <p:nvPr/>
          </p:nvSpPr>
          <p:spPr>
            <a:xfrm>
              <a:off x="5688000" y="4178520"/>
              <a:ext cx="698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过龄林</a:t>
              </a:r>
              <a:endParaRPr b="0" i="1" lang="en-US" sz="1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.9%</a:t>
              </a:r>
              <a:endParaRPr b="0" i="1" lang="en-US" sz="1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9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运用知识</a:t>
            </a:r>
            <a:endParaRPr b="0" i="1" lang="en-US" sz="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41:39Z</dcterms:modified>
  <cp:revision>30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